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0360" cy="4874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 name="PlaceHolder 2"/>
          <p:cNvSpPr>
            <a:spLocks noGrp="1"/>
          </p:cNvSpPr>
          <p:nvPr>
            <p:ph type="dt" idx="7"/>
          </p:nvPr>
        </p:nvSpPr>
        <p:spPr>
          <a:xfrm>
            <a:off x="3884760" y="0"/>
            <a:ext cx="2970000" cy="4874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998280" y="738360"/>
            <a:ext cx="4857480" cy="3643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6" name="PlaceHolder 4"/>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263160"/>
            <a:ext cx="2970360" cy="487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 name="PlaceHolder 6"/>
          <p:cNvSpPr>
            <a:spLocks noGrp="1"/>
          </p:cNvSpPr>
          <p:nvPr>
            <p:ph type="sldNum" idx="9"/>
          </p:nvPr>
        </p:nvSpPr>
        <p:spPr>
          <a:xfrm>
            <a:off x="3884760" y="9263160"/>
            <a:ext cx="2970000" cy="487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8B95-383D-4B88-BEE4-F5934D3D3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8640" y="738360"/>
            <a:ext cx="4857480" cy="3643200"/>
          </a:xfrm>
          <a:prstGeom prst="rect">
            <a:avLst/>
          </a:prstGeom>
          <a:ln w="0">
            <a:noFill/>
          </a:ln>
        </p:spPr>
      </p:sp>
      <p:sp>
        <p:nvSpPr>
          <p:cNvPr id="34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permiso del tribunal se procederá a la defensa del proyecto titulado DESARROLLO DE UN COMPONENTE TECLADO desarrollado por el alumno FCO. JAVIER SÁNCHEZ RAMOS con la tutoría de MIGUEL A. LAGUNA SERRANO y BRUNO GONZÁLEZ-BAIXAULI.</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38360"/>
            <a:ext cx="4857480" cy="3643200"/>
          </a:xfrm>
          <a:prstGeom prst="rect">
            <a:avLst/>
          </a:prstGeom>
          <a:ln w="0">
            <a:noFill/>
          </a:ln>
        </p:spPr>
      </p:sp>
      <p:sp>
        <p:nvSpPr>
          <p:cNvPr id="35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anális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8640" y="738360"/>
            <a:ext cx="4857480" cy="3643200"/>
          </a:xfrm>
          <a:prstGeom prst="rect">
            <a:avLst/>
          </a:prstGeom>
          <a:ln w="0">
            <a:noFill/>
          </a:ln>
        </p:spPr>
      </p:sp>
      <p:sp>
        <p:nvSpPr>
          <p:cNvPr id="36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sta fase se </a:t>
            </a:r>
            <a:r>
              <a:rPr b="0" lang="es-ES" sz="1600" spc="-1" strike="noStrike">
                <a:solidFill>
                  <a:srgbClr val="000000"/>
                </a:solidFill>
                <a:latin typeface="Arial"/>
              </a:rPr>
              <a:t>determinará la funcionalidad que debe ofrecer el componente. Para recoger la funcionalidad se utilizarán los casos de uso que representan una interacción típica entre un usuario y el sistema. Aparecerá también un diagrama inicial de clases que mostrará la estructura estática del sistema que se desea construi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8640" y="738360"/>
            <a:ext cx="4857480" cy="3643200"/>
          </a:xfrm>
          <a:prstGeom prst="rect">
            <a:avLst/>
          </a:prstGeom>
          <a:ln w="0">
            <a:noFill/>
          </a:ln>
        </p:spPr>
      </p:sp>
      <p:sp>
        <p:nvSpPr>
          <p:cNvPr id="36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con la representación de los casos de uso se debe conocer qué actores van a utilizar el sistem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 actor es un agente externo al sistema que representa a cualquier elemento que intercambie información con el mismo. Un actor representa un cierto papel que un usuario puede jugar. En este desarrollo se han identificado dos actores, el actor discapacitado y el actor ayudant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discapacitado será el usuario principal del sistema, será el que aproveche la funcionalidad ofrecida para comunicarse con su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representa a cualquier persona del entorno del usuario principal, por ejemplo familia, amigos, profesor, etc. que se encargará de configurar el sistema en función del grado de discapacidad del usuario princip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98640" y="738360"/>
            <a:ext cx="4857480" cy="3643200"/>
          </a:xfrm>
          <a:prstGeom prst="rect">
            <a:avLst/>
          </a:prstGeom>
          <a:ln w="0">
            <a:noFill/>
          </a:ln>
        </p:spPr>
      </p:sp>
      <p:sp>
        <p:nvSpPr>
          <p:cNvPr id="36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de casos de uso se muestra la funcionalidad asociada a cada uno de los actores. Como se puede ver, el actor discapacitado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cribir: Consistirá en añadir texto al cuadro de texto.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producir: Consistirá en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ultar ayuda: Podrá consultar una pequeña ayuda que trae incorporada el sistem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rrar: Podrá eliminar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actor ayudante tiene asociadas las funcionalidades d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ctivar/Desactivar barrido: En función del grado de discapacidad del usuario activará o desactivará el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leccionar tiempo de barrido: Al igual que antes, en función del grado de discapacidad, seleccionará un tiempo de barrido u otr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nfiguración: Podrá seleccionar una de las configuraciones que haya en el componente en función de los conocimientos del actor discapacitado (si sabe leer o n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mbiar colores: Podrá cambiar los colores de apariencia del teclad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una descripción de cada caso de uso pueden consultar la memoria. *** Aquí estaría bien que mostraras al menos un caso de uso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8640" y="738360"/>
            <a:ext cx="4857480" cy="3643200"/>
          </a:xfrm>
          <a:prstGeom prst="rect">
            <a:avLst/>
          </a:prstGeom>
          <a:ln w="0">
            <a:noFill/>
          </a:ln>
        </p:spPr>
      </p:sp>
      <p:sp>
        <p:nvSpPr>
          <p:cNvPr id="36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ciendo un estudio textual de la descripción del problema se ha conseguido el diagrama inicial de clases que se muestra en la diaposi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él se puede observar, la existencia de una clase llamada ComponenteTeclado que será la clase principal del componente. Esta clase será la encargada de crear todas las pantallas del teclado, con sus respectivos botones. Para ello consultará la información dada por una de sus configuraci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 una clase Barrido que controlará el tiempo que permanece señalado un botón dentro de una determinada pantalla y una clase Texto que almacenará el texto escrito por 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existirá una clase Pantalla que representará las pantallas que forman el teclado y una clase Boton que representará los botones que aparecen en las pantallas. Como se puede apreciar, por las relaciones representadas, un ComponenteTeclado estará formado por un conjunto de pantallas (por lo menos una) y una pantalla estará formada por un conjunto de botones (por lo menos u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diagrama se muestran también, dos especificaciones de la clase Boton, con la finalidad de representar los dos tipos de botones que pueden existir (botones de caracteres y botones de imágenes). Asociada a la clase BotonImagen aparece la clase imagen que representará la imagen asociada al botón.</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8640" y="738360"/>
            <a:ext cx="4857480" cy="3643200"/>
          </a:xfrm>
          <a:prstGeom prst="rect">
            <a:avLst/>
          </a:prstGeom>
          <a:ln w="0">
            <a:noFill/>
          </a:ln>
        </p:spPr>
      </p:sp>
      <p:sp>
        <p:nvSpPr>
          <p:cNvPr id="36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diseño, donde </a:t>
            </a:r>
            <a:r>
              <a:rPr b="0" lang="es-ES" sz="1600" spc="-1" strike="noStrike">
                <a:solidFill>
                  <a:srgbClr val="000000"/>
                </a:solidFill>
                <a:latin typeface="Arial"/>
              </a:rPr>
              <a:t>se representará el sistema software que se desea construir</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8640" y="738360"/>
            <a:ext cx="4857480" cy="3643200"/>
          </a:xfrm>
          <a:prstGeom prst="rect">
            <a:avLst/>
          </a:prstGeom>
          <a:ln w="0">
            <a:noFill/>
          </a:ln>
        </p:spPr>
      </p:sp>
      <p:sp>
        <p:nvSpPr>
          <p:cNvPr id="37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ase de diseño se ha dividido en estos 5 puntos que a continuación se detalla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8640" y="738360"/>
            <a:ext cx="4857480" cy="3643200"/>
          </a:xfrm>
          <a:prstGeom prst="rect">
            <a:avLst/>
          </a:prstGeom>
          <a:ln w="0">
            <a:noFill/>
          </a:ln>
        </p:spPr>
      </p:sp>
      <p:sp>
        <p:nvSpPr>
          <p:cNvPr id="37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comenzar la representación del sistema se realizará la especificación de los casos de uso presentados en la fase de análisis, en estas especificaciones se describen de una forma detallada, las acciones realizadas por el usuario y por el sistema desde que el usuario solicita un servicio, hasta que el sistema se lo ofrece. Además de esto, se podrán presentar pre o post condiciones y una secuencia de pasos alternativ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la especificación del caso de uso Escribi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especificaciones de casos de uso pueden consultar la memori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8640" y="738360"/>
            <a:ext cx="4857480" cy="3643200"/>
          </a:xfrm>
          <a:prstGeom prst="rect">
            <a:avLst/>
          </a:prstGeom>
          <a:ln w="0">
            <a:noFill/>
          </a:ln>
        </p:spPr>
      </p:sp>
      <p:sp>
        <p:nvSpPr>
          <p:cNvPr id="37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incluido en esta fase de diseño un diagrama de secuencia por cada caso de uso. El diagrama de secuencia detallará el paso de mensajes entre los objetos del sistema mostrando así el comportamiento del sistema en funcionamien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 como ejemplo, el diagrama de secuencia asociado al caso de uso Borrar. En él se puede ver que el actor Discapacitado selecciona el botón cuya funcionalidad asociada es la de borrar. El botón pide a un objeto de la clase ComponenteTeclado que realice el borrado y este elimina una porción de texto del cuadro de tex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el resto de diagramas de secuencia pueden consultar la memoria</a:t>
            </a:r>
            <a:endParaRPr b="0" lang="en-US" sz="1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98640" y="738360"/>
            <a:ext cx="4857480" cy="3643200"/>
          </a:xfrm>
          <a:prstGeom prst="rect">
            <a:avLst/>
          </a:prstGeom>
          <a:ln w="0">
            <a:noFill/>
          </a:ln>
        </p:spPr>
      </p:sp>
      <p:sp>
        <p:nvSpPr>
          <p:cNvPr id="37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 el diagrama final de clases del componente. Se puede ver que se han añadido y modificado clases e incluso aparece alguna nueva asociación entre clases con respecto al diagrama inicial mostrado en la fase de anális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s nuevas clases que aparecen son la clase BotonRadio que representará un botón de selección y se usará para dar la opción al usuario de elegir si quiere o no trabajar con el barrido activado. La clase ListasSelección que representarán un conjunto de opciones entre las que el usuario puede elegir y se utilizará para dar la posibilidad al usuario de elegir la configuración con la que quiere trabajar y también para elegir el tiempo de barrido. También aparece la clase Etiquetas que representará un texto informativo que aparecerá en las pantallas con la finalidad de guiar las acciones del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que aparecía en el diagrama inicial de clases llamada Configuración ha sido modificada por la clase EstadoConfiguracion. Esta nueva clase almacenará la información necesaria para que la clase ComponenteTeclado conozca la configuración con la que debe trabaja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66ff"/>
                </a:solidFill>
                <a:latin typeface="Arial"/>
              </a:rPr>
              <a:t>En el diagrama aparece una nueva asociación entre la clase Imagen y la clase Pantalla. Esta asociación surge de la necesidad que hay, en las configuraciones de imágenes, de que existan más imágenes dentro de una pantalla que botones. Ahora existirá un conjunto de imágenes asociado a una pantalla de tal manera que existirán botones de imagen variables que vayan cambiando su imagen mostrada y su funcionalidad asociada a lo largo del tiempo. Este aspecto se verá muy claro en la demostración de uso.</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8640" y="738360"/>
            <a:ext cx="4857480" cy="3643200"/>
          </a:xfrm>
          <a:prstGeom prst="rect">
            <a:avLst/>
          </a:prstGeom>
          <a:ln w="0">
            <a:noFill/>
          </a:ln>
        </p:spPr>
      </p:sp>
      <p:sp>
        <p:nvSpPr>
          <p:cNvPr id="34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 dividido la presentación en 7 puntos. Se comenzará con la introducción y se terminará con la demostración y las conclusion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8640" y="738360"/>
            <a:ext cx="4857480" cy="3643200"/>
          </a:xfrm>
          <a:prstGeom prst="rect">
            <a:avLst/>
          </a:prstGeom>
          <a:ln w="0">
            <a:noFill/>
          </a:ln>
        </p:spPr>
      </p:sp>
      <p:sp>
        <p:nvSpPr>
          <p:cNvPr id="37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odelar los datos almacenados por las configuraciones se ha utilizado un diagrama Entidad-Relación. Esta elección se debe a la familiarización que se tiene con este tipo de diagramas después de cursar asignaturas como bases de datos e ingeniería del software y se debe también a su facilidad de comprensión.</a:t>
            </a:r>
            <a:endParaRPr b="0" lang="en-US" sz="1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98640" y="738360"/>
            <a:ext cx="4857480" cy="3643200"/>
          </a:xfrm>
          <a:prstGeom prst="rect">
            <a:avLst/>
          </a:prstGeom>
          <a:ln w="0">
            <a:noFill/>
          </a:ln>
        </p:spPr>
      </p:sp>
      <p:sp>
        <p:nvSpPr>
          <p:cNvPr id="38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continuación se mostrarán un conjunto de esquemas de las futuras interfaces gráficas de usuari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mostrado en la diapositiva representa la interfaz gráfica de usuario para la pantalla principal de una configuración. En él se puede observar la existencia de un cuadro de texto en su parte superior, un conjunto de botones de selección de grupo en el centro y un conjunto de botones para realizar alguna acción especial en la parte inferior.</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pulsación de uno de los botones de selección de grupo hará que se muestre una pantalla con la siguiente interfaz.</a:t>
            </a:r>
            <a:endParaRPr b="0" lang="en-US" sz="1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98640" y="738360"/>
            <a:ext cx="4857480" cy="3643200"/>
          </a:xfrm>
          <a:prstGeom prst="rect">
            <a:avLst/>
          </a:prstGeom>
          <a:ln w="0">
            <a:noFill/>
          </a:ln>
        </p:spPr>
      </p:sp>
      <p:sp>
        <p:nvSpPr>
          <p:cNvPr id="38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esquema se puede apreciar la existencia del cuadro de texto en la parte superior, un conjunto de botones de escritura en la zona central y un conjunto de botones para realizar alguna acción especial en la zona inferior.</a:t>
            </a:r>
            <a:endParaRPr b="0" lang="en-US" sz="16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8640" y="738360"/>
            <a:ext cx="4857480" cy="3643200"/>
          </a:xfrm>
          <a:prstGeom prst="rect">
            <a:avLst/>
          </a:prstGeom>
          <a:ln w="0">
            <a:noFill/>
          </a:ln>
        </p:spPr>
      </p:sp>
      <p:sp>
        <p:nvSpPr>
          <p:cNvPr id="38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e esquema se muestra la apariencia de la pantalla de menú. En él se puede ver que no aparecerá el cuadro de texto, puesto que en esta pantalla no se realizará escritura y que aparecerán un conjunto de botones que representarán las distintas opciones de menú que se deseen ofrecer.</a:t>
            </a: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98640" y="738360"/>
            <a:ext cx="4857480" cy="3643200"/>
          </a:xfrm>
          <a:prstGeom prst="rect">
            <a:avLst/>
          </a:prstGeom>
          <a:ln w="0">
            <a:noFill/>
          </a:ln>
        </p:spPr>
      </p:sp>
      <p:sp>
        <p:nvSpPr>
          <p:cNvPr id="38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implementación, donde </a:t>
            </a:r>
            <a:r>
              <a:rPr b="0" lang="es-ES" sz="1600" spc="-1" strike="noStrike">
                <a:solidFill>
                  <a:srgbClr val="000000"/>
                </a:solidFill>
                <a:latin typeface="Arial"/>
              </a:rPr>
              <a:t>se convertirán todas las especificaciones descritas hasta ahora en un sistema software rea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98640" y="738360"/>
            <a:ext cx="4857480" cy="3643200"/>
          </a:xfrm>
          <a:prstGeom prst="rect">
            <a:avLst/>
          </a:prstGeom>
          <a:ln w="0">
            <a:noFill/>
          </a:ln>
        </p:spPr>
      </p:sp>
      <p:sp>
        <p:nvSpPr>
          <p:cNvPr id="38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eberán tomar ciertas decisiones com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el entorno de desarrollo y el lenguaje de programación a utiliz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mecanismos utilizados para el almacenamiento de los datos de las distintas configuracio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orma de trabajar con esos datos.</a:t>
            </a:r>
            <a:endParaRPr b="0" lang="en-US" sz="16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8640" y="738360"/>
            <a:ext cx="4857480" cy="3643200"/>
          </a:xfrm>
          <a:prstGeom prst="rect">
            <a:avLst/>
          </a:prstGeom>
          <a:ln w="0">
            <a:noFill/>
          </a:ln>
        </p:spPr>
      </p:sp>
      <p:sp>
        <p:nvSpPr>
          <p:cNvPr id="39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tecnología utilizada ha sido la plataforma .NET, esta decisión se tomó debido al auge actual de esta tecnología y a la facilidad de programación de dispositivos móviles basados en Pocket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ntorno de desarrollo utilizado ha sido Visual Studio.NET en su edición 2003, que es el entorno de desarrollo que ofrece .N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lenguaje de programación que se ha utilizado es Visual C#, que es el lenguaje nativo de .NET</a:t>
            </a:r>
            <a:endParaRPr b="0" lang="en-US" sz="16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98640" y="738360"/>
            <a:ext cx="4857480" cy="3643200"/>
          </a:xfrm>
          <a:prstGeom prst="rect">
            <a:avLst/>
          </a:prstGeom>
          <a:ln w="0">
            <a:noFill/>
          </a:ln>
        </p:spPr>
      </p:sp>
      <p:sp>
        <p:nvSpPr>
          <p:cNvPr id="39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almacenar los datos correspondientes a las configuraciones se ha optado por utilizar ficheros XML. Esta decisión se tomó por diversas razon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piedades que ofrece XML, como por ejemplo la extensibilidad, la posibilidad de compartir datos entre aplicaciones escritas en diferentes lenguajes, etc.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ET ofrece clases optimizadas para la lectura y escritura de ficheros XM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isual Studio.NET ofrece un editor para la creación de estos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XML es muy sencillo crear una estructura jerárquica que contenga los datos relativos a una configuración. Dado que una configuración está formada por pantallas y una pantalla está formada por botones, con XML es muy sencillo modelar esta situ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XML pueden consultar el apéndice 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tipos de ficher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imer tipo será el de los ficheros que almacenan los datos relativos a una configuración (pantallas, botones de cada pantalla, etc.). Existirán tantos ficheros de este tipo como configuraciones haya en el componente. </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el segundo tipo será un fichero que almacena datos que el componente necesita conocer al iniciarse una sesión de trabajo, como por ejemplo, el fichero de configuración que debe leer para crear todas las pantallas, si se va a trabajar con barrido o no, el tiempo de barrido, colores de apariencia, etc. Únicamente existirá un fichero de este tipo. Este fichero es el que asegura la persistencia de la configuración del componente, es decir, cuando el usuario, utilizando la aplicación, elige trabajar con una u otra configuración se escriben en este fichero los datos correspondientes para que la próxima vez que se inicie la aplicación se trabaje con la configuración elegida por el usuario.</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ver al estructura de estos ficheros pueden consultar el apéndice B.</a:t>
            </a:r>
            <a:endParaRPr b="0" lang="en-US" sz="1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98640" y="738360"/>
            <a:ext cx="4857480" cy="3643200"/>
          </a:xfrm>
          <a:prstGeom prst="rect">
            <a:avLst/>
          </a:prstGeom>
          <a:ln w="0">
            <a:noFill/>
          </a:ln>
        </p:spPr>
      </p:sp>
      <p:sp>
        <p:nvSpPr>
          <p:cNvPr id="39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sta diapositiva se muestran las clase ofrecidas por .NET que se han utilizado para la lectura y escritura de los ficheros XM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clase XmlReader se ha utilizado para la lectura de los dato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clase XmlTextWriter se ha utilizado para la escritura de datos en el fichero de persistencia de configuración</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ra más información sobre estas clases pueden consultar el apéndice A</a:t>
            </a:r>
            <a:endParaRPr b="0" lang="en-US" sz="16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8640" y="738360"/>
            <a:ext cx="4857480" cy="3643200"/>
          </a:xfrm>
          <a:prstGeom prst="rect">
            <a:avLst/>
          </a:prstGeom>
          <a:ln w="0">
            <a:noFill/>
          </a:ln>
        </p:spPr>
      </p:sp>
      <p:sp>
        <p:nvSpPr>
          <p:cNvPr id="39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hará una demostración de uso del comunicad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8640" y="738360"/>
            <a:ext cx="4857480" cy="3643200"/>
          </a:xfrm>
          <a:prstGeom prst="rect">
            <a:avLst/>
          </a:prstGeom>
          <a:ln w="0">
            <a:noFill/>
          </a:ln>
        </p:spPr>
      </p:sp>
      <p:sp>
        <p:nvSpPr>
          <p:cNvPr id="34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proyecto forma parte de un conjunto de proyectos propuestos por el grupo GIRO. Estos proyectos están orientados al desarrollo de componentes software reutilizables en el dominio de aplicación de la Comunicación Alternativa y Aumentativa. La Comunicación Alternativa y Aumentativa incluye un conjunto de estrategias de intervención, de sistemas de signos y de ayudas técnicas dedicados a sustituir y/o aumentar el habla en personas con discapacida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finalidad de todos estos proyectos es elaborar un conjunto de elementos reutilizables que permitan el desarrollo de aplicaciones futuras para facilitar la comunicación de estas personas.</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98640" y="738360"/>
            <a:ext cx="4857480" cy="3643200"/>
          </a:xfrm>
          <a:prstGeom prst="rect">
            <a:avLst/>
          </a:prstGeom>
          <a:ln w="0">
            <a:noFill/>
          </a:ln>
        </p:spPr>
      </p:sp>
      <p:sp>
        <p:nvSpPr>
          <p:cNvPr id="39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pasará a la fase de conclusiones que está separada en los siguientes punt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98640" y="738360"/>
            <a:ext cx="4857480" cy="3643200"/>
          </a:xfrm>
          <a:prstGeom prst="rect">
            <a:avLst/>
          </a:prstGeom>
          <a:ln w="0">
            <a:noFill/>
          </a:ln>
        </p:spPr>
      </p:sp>
      <p:sp>
        <p:nvSpPr>
          <p:cNvPr id="40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diapositiva se muestran los objetivos alcanzados con el desarrollo de este proyect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que el componente sea fácilmente reutilizable *** Estaría bien que hablaras en algún momento de esto (como se reutilizaría el componente)***</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incluye un sistema de escritura basado en caracteres y otro basado en imágenes</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uede modificar la apariencia y funcionalidad del teclado sin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fácil añadir nuevas configuraciones al componente, por ejemplo con nuevos alfabetos de imágenes, etc. Para crear una nueva configuración simplemente se deben seguir las estructuras de los ficheros XML descritas en los apéndices de la memoria.</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incorpora un sistema de barrido que permite realizar la escritura a personas con discapacidades motoras severas. El usuario puede activar y desactivar el barrido y modificar el tiempo de barrid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 conseguido integrar el componente en una aplicación. Además en esta aplicación se ha integrado otro componente (desarrollado en proyectos anteriores) que se encarga de la reproducción por voz.</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usuario tiene la posibilidad de elegir, utilizando la aplicación, la configuración con la que desea trabajar.</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creado pose una interfaz amigable y fácil de utilizar</a:t>
            </a:r>
            <a:endParaRPr b="0" lang="en-US" sz="16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98640" y="738360"/>
            <a:ext cx="4857480" cy="3643200"/>
          </a:xfrm>
          <a:prstGeom prst="rect">
            <a:avLst/>
          </a:prstGeom>
          <a:ln w="0">
            <a:noFill/>
          </a:ln>
        </p:spPr>
      </p:sp>
      <p:sp>
        <p:nvSpPr>
          <p:cNvPr id="40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 el desarrollo de este proyecto se han adquirido multitud de conocimientos técnicos, como por ejemplo: .Net, xml, programación de dispositivos móvil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demás de los conocimientos de tipo técnicos, ha sido posible aplicar a un sistema real metodologías estudiadas a lo largo de la carrera.</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finalizar con los conocimientos adquiridos, se ha podido comprobar cómo las nuevas tecnologías pueden ayudar a las personas con discapacidad.</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98640" y="738360"/>
            <a:ext cx="4857480" cy="3643200"/>
          </a:xfrm>
          <a:prstGeom prst="rect">
            <a:avLst/>
          </a:prstGeom>
          <a:ln w="0">
            <a:noFill/>
          </a:ln>
        </p:spPr>
      </p:sp>
      <p:sp>
        <p:nvSpPr>
          <p:cNvPr id="40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han propuesto posibles ampliaciones y mejoras de este proyec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n integrar en el comunicador nuevos componentes que aumenten la funcionalidad del mismo, como por ejemplo un componente que permita la comunicación basada en bluetooth o wifi de la PDA con otra PDA o incluso con un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ía desarrollar una aplicación de escritorio que permita al propio usuario crear los ficheros XML.</a:t>
            </a:r>
            <a:endParaRPr b="0" lang="en-US" sz="16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98640" y="738360"/>
            <a:ext cx="4857480" cy="3643200"/>
          </a:xfrm>
          <a:prstGeom prst="rect">
            <a:avLst/>
          </a:prstGeom>
          <a:ln w="0">
            <a:noFill/>
          </a:ln>
        </p:spPr>
      </p:sp>
      <p:sp>
        <p:nvSpPr>
          <p:cNvPr id="40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a vez terminada esta defensa quedo a disposición del tribunal para cuantas preguntas, cuestiones y observaciones desee realizar. Muchas gracias por su aten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8640" y="738360"/>
            <a:ext cx="4857480" cy="3643200"/>
          </a:xfrm>
          <a:prstGeom prst="rect">
            <a:avLst/>
          </a:prstGeom>
          <a:ln w="0">
            <a:noFill/>
          </a:ln>
        </p:spPr>
      </p:sp>
      <p:sp>
        <p:nvSpPr>
          <p:cNvPr id="34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e proyecto en particular consiste en el desarrollo de un componente software reutilizable que implemente un teclado que, integrado en aplicaciones, facilite la comunicación de las personas discapacitada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teclado estará compuesto por distintas pantallas, formadas, cada una de ellas, por un conjunto de botones y por un cuadro de texto dedicado a mostrar, en todo momento, la información que el usuario va introduciendo. Los botones serán los que posibiliten la interacción del usuario con el sistema, entre otras cosas permitirán que el usuario introduzca la información que desee transmitir. Estos botones pueden ser de tipo texto o de tipo image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varias configuraciones. Una configuración determinará la apariencia y la funcionalidad del teclado. Se busca poder modificar la configuración del componente sin necesidad de modificar códig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8640" y="738360"/>
            <a:ext cx="4857480" cy="3643200"/>
          </a:xfrm>
          <a:prstGeom prst="rect">
            <a:avLst/>
          </a:prstGeom>
          <a:ln w="0">
            <a:noFill/>
          </a:ln>
        </p:spPr>
      </p:sp>
      <p:sp>
        <p:nvSpPr>
          <p:cNvPr id="349"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xistirán dos formas de seleccionar el botón deseado. Pulsación directa y barrido. Pulsación directa consiste en pulsar directamente el botón que represente la función que se desea realizar (por ejemplo escribir un carácter). El barrido es un método por el cual el teclado irá señalando, a intervalos de tiempo iguales, todos los botones que aparecen en la pantalla que se esté mostrando, con la finalidad de que cuando el usuario desee seleccionar el botón que está señalado por el barrido, únicamente tenga que hacer una acción muy simple (por ejemplo golpear un pulsador que esté conectado al dispositiv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componente desarrollado se integrará, a modo de ejemplo, en un comunicador. Un comunicador es una aplicación que permite al usuario hacer más natural y sencilla su comunicación con el entorno.</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buscará que el comunicador tenga el mayor grado de movilidad y autonomía posible, por esto se utilizará la plataforma Pocket PC para el desarrollo del mismo, aunque será posible la integración del componente en aplicaciones para la plataforma PC.</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8640" y="738360"/>
            <a:ext cx="4857480" cy="3643200"/>
          </a:xfrm>
          <a:prstGeom prst="rect">
            <a:avLst/>
          </a:prstGeom>
          <a:ln w="0">
            <a:noFill/>
          </a:ln>
        </p:spPr>
      </p:sp>
      <p:sp>
        <p:nvSpPr>
          <p:cNvPr id="351"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continuación se comentarán los objetivos que se buscan con el desarrollo de este proyect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8640" y="738360"/>
            <a:ext cx="4857480" cy="3643200"/>
          </a:xfrm>
          <a:prstGeom prst="rect">
            <a:avLst/>
          </a:prstGeom>
          <a:ln w="0">
            <a:noFill/>
          </a:ln>
        </p:spPr>
      </p:sp>
      <p:sp>
        <p:nvSpPr>
          <p:cNvPr id="353"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dos objetivos principales que se persiguen son la creación del componente y su integración en una aplicación.</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8640" y="738360"/>
            <a:ext cx="4857480" cy="3643200"/>
          </a:xfrm>
          <a:prstGeom prst="rect">
            <a:avLst/>
          </a:prstGeom>
          <a:ln w="0">
            <a:noFill/>
          </a:ln>
        </p:spPr>
      </p:sp>
      <p:sp>
        <p:nvSpPr>
          <p:cNvPr id="355"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Creación del componente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be existir una configuración que cree el teclado compuesto por botones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mbién debe existir una configuración que cree el teclado compuesto por botones de imagen basándose en algún alfabeto de imágenes conocido por el usuario, por ejemplo el alfabeto SPC, que es el Sistema Pictográfico de Comunicación.</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odrán modificar las configuraciones del componente sin necesidad de modificar el códig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dará la posibilidad de añadir nuevas configuraciones, por ejemplo con un nuevo alfabeto de imágene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teclado poseerá una interfaz fácil de usar y amigable de cara a su utilización por discapacitad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8640" y="738360"/>
            <a:ext cx="4857480" cy="3643200"/>
          </a:xfrm>
          <a:prstGeom prst="rect">
            <a:avLst/>
          </a:prstGeom>
          <a:ln w="0">
            <a:noFill/>
          </a:ln>
        </p:spPr>
      </p:sp>
      <p:sp>
        <p:nvSpPr>
          <p:cNvPr id="357" name="PlaceHolder 2"/>
          <p:cNvSpPr>
            <a:spLocks noGrp="1"/>
          </p:cNvSpPr>
          <p:nvPr>
            <p:ph type="body"/>
          </p:nvPr>
        </p:nvSpPr>
        <p:spPr>
          <a:xfrm>
            <a:off x="914040" y="4630320"/>
            <a:ext cx="5025960" cy="43880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ntro del objetivo principal integración en una aplicación aparecen estos objetivos secundario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comprobará el funcionamiento del componente desarrollado en una aplicación real</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egrará en el comunicador un componente (ya desarrollado en proyectos anteriores) que se encargue de reproducir de manera oral el texto escrito en el cuadro de texto</a:t>
            </a: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permitirá al usuario que, desde el propio comunicador, elija la configuración deseada.</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DEAA2E-55AA-4927-BFCF-992E29128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C777E30-FCD5-4CB4-B6CB-F156E9E08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85DEA67-3F79-4FB0-A9F5-DFEB02E08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D41A25C-072A-4E87-8BAD-A98BFF69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2012D71-54E0-4B5D-AFCB-CF9427564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AED2161-4BE8-4258-A80B-C670B24FA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B1E30B-D1B0-4300-A6D0-2CEB6F387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5FA223A-D7B7-431D-B53A-7ABC08C2F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58F398-1003-4259-9B01-1CF2E7C2F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C529DC-D651-4C80-87BD-BCEE22881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A8561F-C19B-424A-AB1A-4ECD9637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type="subTitle"/>
          </p:nvPr>
        </p:nvSpPr>
        <p:spPr>
          <a:xfrm>
            <a:off x="2743200" y="5029200"/>
            <a:ext cx="6400800" cy="838080"/>
          </a:xfrm>
          <a:prstGeom prst="rect">
            <a:avLst/>
          </a:prstGeom>
          <a:noFill/>
          <a:ln w="0">
            <a:noFill/>
          </a:ln>
        </p:spPr>
        <p:txBody>
          <a:bodyPr lIns="92160" rIns="92160" tIns="46080" bIns="4608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2590966-9BFE-476C-B912-B9EFB9A2B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53F118-028B-40FC-BFEF-E9830FD5A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EF960E-8C35-403D-BF1E-6DC49663A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2743200" y="502920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E8422F-7DA4-4FD0-B000-EAC51A4AD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9EA7F42-7973-4B2B-A893-B0B4A57B51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274320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0716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7071480" y="502920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74320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90716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7071480" y="5467320"/>
            <a:ext cx="2060640" cy="399600"/>
          </a:xfrm>
          <a:prstGeom prst="rect">
            <a:avLst/>
          </a:prstGeom>
          <a:noFill/>
          <a:ln w="0">
            <a:noFill/>
          </a:ln>
        </p:spPr>
        <p:txBody>
          <a:bodyPr lIns="0" rIns="0" tIns="0" bIns="0" anchor="t">
            <a:normAutofit fontScale="8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3B376A5-0AA4-4257-9AD6-F8312B2A48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2743200" y="5029200"/>
            <a:ext cx="640080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73FC89D-DD2E-4FB4-A5FB-D86D1B16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3E65A48-4400-44D7-872B-B55E86648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8ED1E7-6F11-4747-B723-C49F78522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2840" y="3580920"/>
            <a:ext cx="6172200" cy="5299560"/>
          </a:xfrm>
          <a:prstGeom prst="rect">
            <a:avLst/>
          </a:prstGeom>
          <a:noFill/>
          <a:ln w="0">
            <a:noFill/>
          </a:ln>
        </p:spPr>
        <p:txBody>
          <a:bodyPr lIns="92160" rIns="92160" tIns="46080" bIns="46080" anchor="b">
            <a:noAutofit/>
          </a:bodyPr>
          <a:p>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901F00-EB73-4F21-9CA6-87E0CD7C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602316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74320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587B5A-8B60-470D-B88E-4A9D897B2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2743200" y="5029200"/>
            <a:ext cx="3123360" cy="838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6023160" y="546732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CE120A6-CC8B-4591-99A6-2E66A266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2"/>
          <p:cNvSpPr>
            <a:spLocks noGrp="1"/>
          </p:cNvSpPr>
          <p:nvPr>
            <p:ph/>
          </p:nvPr>
        </p:nvSpPr>
        <p:spPr>
          <a:xfrm>
            <a:off x="274320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6023160" y="5029200"/>
            <a:ext cx="312336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743200" y="5467320"/>
            <a:ext cx="6400800" cy="39960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681C50-36B8-43B0-9528-867250C21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2" name="PlaceHolder 3"/>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9B39-F84A-4876-9816-8E3C7B0E0C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 name="PlaceHolder 4"/>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title"/>
          </p:nvPr>
        </p:nvSpPr>
        <p:spPr>
          <a:xfrm>
            <a:off x="685800" y="21888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2" name="PlaceHolder 2"/>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CCF7-45FD-4DE9-867D-52CD4D485F1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title"/>
          </p:nvPr>
        </p:nvSpPr>
        <p:spPr>
          <a:xfrm>
            <a:off x="2742840" y="3580920"/>
            <a:ext cx="61722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4.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4.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4.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r>
              <a:rPr b="0" lang="es-ES_tradnl" sz="2000" spc="-1" strike="noStrike">
                <a:solidFill>
                  <a:srgbClr val="ff0000"/>
                </a:solidFill>
                <a:latin typeface="Arial"/>
              </a:rPr>
              <a:t> </a:t>
            </a:r>
            <a:r>
              <a:rPr b="0" lang="es-ES_tradnl" sz="2000" spc="-1" strike="noStrike">
                <a:solidFill>
                  <a:srgbClr val="000000"/>
                </a:solidFill>
                <a:latin typeface="Arial"/>
              </a:rPr>
              <a:t>de Septiembre de 2006</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7667640" y="-100080"/>
            <a:ext cx="1368360" cy="1351080"/>
          </a:xfrm>
          <a:prstGeom prst="rect">
            <a:avLst/>
          </a:prstGeom>
          <a:ln w="0">
            <a:noFill/>
          </a:ln>
        </p:spPr>
      </p:pic>
      <p:sp>
        <p:nvSpPr>
          <p:cNvPr id="94"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44C3584-E1A0-474D-8DC1-3B10B10B0F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48" name="" descr=""/>
          <p:cNvPicPr/>
          <p:nvPr/>
        </p:nvPicPr>
        <p:blipFill>
          <a:blip r:embed="rId1"/>
          <a:stretch/>
        </p:blipFill>
        <p:spPr>
          <a:xfrm>
            <a:off x="7667640" y="-100080"/>
            <a:ext cx="1368360" cy="1351080"/>
          </a:xfrm>
          <a:prstGeom prst="rect">
            <a:avLst/>
          </a:prstGeom>
          <a:ln w="0">
            <a:noFill/>
          </a:ln>
        </p:spPr>
      </p:pic>
      <p:sp>
        <p:nvSpPr>
          <p:cNvPr id="149"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álisis</a:t>
            </a:r>
            <a:r>
              <a:rPr b="0" lang="es-ES" sz="2400" spc="-1" strike="noStrike">
                <a:solidFill>
                  <a:srgbClr val="969696"/>
                </a:solidFill>
                <a:latin typeface="Arial"/>
              </a:rPr>
              <a:t>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6714CE4-0C3D-475F-B764-D26575060C2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54" name="" descr=""/>
          <p:cNvPicPr/>
          <p:nvPr/>
        </p:nvPicPr>
        <p:blipFill>
          <a:blip r:embed="rId1"/>
          <a:stretch/>
        </p:blipFill>
        <p:spPr>
          <a:xfrm>
            <a:off x="7667640" y="-100080"/>
            <a:ext cx="1368360" cy="1351080"/>
          </a:xfrm>
          <a:prstGeom prst="rect">
            <a:avLst/>
          </a:prstGeom>
          <a:ln w="0">
            <a:noFill/>
          </a:ln>
        </p:spPr>
      </p:pic>
      <p:sp>
        <p:nvSpPr>
          <p:cNvPr id="155" name=""/>
          <p:cNvSpPr/>
          <p:nvPr/>
        </p:nvSpPr>
        <p:spPr>
          <a:xfrm>
            <a:off x="468360" y="2206800"/>
            <a:ext cx="8229600" cy="2158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ncionalidad: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inicial de cl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5CCFDCE9-03F7-41D3-9194-426B267719A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5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0" name="" descr=""/>
          <p:cNvPicPr/>
          <p:nvPr/>
        </p:nvPicPr>
        <p:blipFill>
          <a:blip r:embed="rId1"/>
          <a:stretch/>
        </p:blipFill>
        <p:spPr>
          <a:xfrm>
            <a:off x="7667640" y="-100080"/>
            <a:ext cx="1368360" cy="1351080"/>
          </a:xfrm>
          <a:prstGeom prst="rect">
            <a:avLst/>
          </a:prstGeom>
          <a:ln w="0">
            <a:noFill/>
          </a:ln>
        </p:spPr>
      </p:pic>
      <p:sp>
        <p:nvSpPr>
          <p:cNvPr id="161" name=""/>
          <p:cNvSpPr/>
          <p:nvPr/>
        </p:nvSpPr>
        <p:spPr>
          <a:xfrm>
            <a:off x="468360" y="1484280"/>
            <a:ext cx="8229600" cy="4249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or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capacitado</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9736A5D-6698-4574-9743-7F2F5BC2C2C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6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66" name="" descr=""/>
          <p:cNvPicPr/>
          <p:nvPr/>
        </p:nvPicPr>
        <p:blipFill>
          <a:blip r:embed="rId1"/>
          <a:stretch/>
        </p:blipFill>
        <p:spPr>
          <a:xfrm>
            <a:off x="7667640" y="-100080"/>
            <a:ext cx="1368360" cy="1351080"/>
          </a:xfrm>
          <a:prstGeom prst="rect">
            <a:avLst/>
          </a:prstGeom>
          <a:ln w="0">
            <a:noFill/>
          </a:ln>
        </p:spPr>
      </p:pic>
      <p:sp>
        <p:nvSpPr>
          <p:cNvPr id="167" name=""/>
          <p:cNvSpPr/>
          <p:nvPr/>
        </p:nvSpPr>
        <p:spPr>
          <a:xfrm>
            <a:off x="468360" y="1197000"/>
            <a:ext cx="8229600" cy="4896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69" name=""/>
          <p:cNvGraphicFramePr/>
          <p:nvPr/>
        </p:nvGraphicFramePr>
        <p:xfrm>
          <a:off x="3492360" y="1268280"/>
          <a:ext cx="3892680" cy="4608720"/>
        </p:xfrm>
        <a:graphic>
          <a:graphicData uri="http://schemas.openxmlformats.org/presentationml/2006/ole">
            <p:oleObj r:id="rId2" spid="">
              <p:embed/>
              <p:pic>
                <p:nvPicPr>
                  <p:cNvPr id="170" name="" descr=""/>
                  <p:cNvPicPr/>
                  <p:nvPr/>
                </p:nvPicPr>
                <p:blipFill>
                  <a:blip r:embed="rId3"/>
                  <a:stretch/>
                </p:blipFill>
                <p:spPr>
                  <a:xfrm>
                    <a:off x="3492360" y="1268280"/>
                    <a:ext cx="3892680" cy="460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B88D1C2-0618-457F-83A5-1C11D445549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7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a:t>
            </a:r>
            <a:endParaRPr b="0" lang="en-US" sz="2800" spc="-1" strike="noStrike">
              <a:solidFill>
                <a:srgbClr val="000000"/>
              </a:solidFill>
              <a:latin typeface="Times New Roman"/>
            </a:endParaRPr>
          </a:p>
        </p:txBody>
      </p:sp>
      <p:pic>
        <p:nvPicPr>
          <p:cNvPr id="175" name="" descr=""/>
          <p:cNvPicPr/>
          <p:nvPr/>
        </p:nvPicPr>
        <p:blipFill>
          <a:blip r:embed="rId1"/>
          <a:stretch/>
        </p:blipFill>
        <p:spPr>
          <a:xfrm>
            <a:off x="7667640" y="-100080"/>
            <a:ext cx="1368360" cy="1351080"/>
          </a:xfrm>
          <a:prstGeom prst="rect">
            <a:avLst/>
          </a:prstGeom>
          <a:ln w="0">
            <a:noFill/>
          </a:ln>
        </p:spPr>
      </p:pic>
      <p:sp>
        <p:nvSpPr>
          <p:cNvPr id="17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inici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p:txBody>
      </p:sp>
      <p:sp>
        <p:nvSpPr>
          <p:cNvPr id="177" name=""/>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8" name=""/>
          <p:cNvGraphicFramePr/>
          <p:nvPr/>
        </p:nvGraphicFramePr>
        <p:xfrm>
          <a:off x="3346560" y="1341360"/>
          <a:ext cx="4897440" cy="4305240"/>
        </p:xfrm>
        <a:graphic>
          <a:graphicData uri="http://schemas.openxmlformats.org/presentationml/2006/ole">
            <p:oleObj r:id="rId2" spid="">
              <p:embed/>
              <p:pic>
                <p:nvPicPr>
                  <p:cNvPr id="179" name="" descr=""/>
                  <p:cNvPicPr/>
                  <p:nvPr/>
                </p:nvPicPr>
                <p:blipFill>
                  <a:blip r:embed="rId3"/>
                  <a:stretch/>
                </p:blipFill>
                <p:spPr>
                  <a:xfrm>
                    <a:off x="3346560" y="1341360"/>
                    <a:ext cx="4897440" cy="430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3FB7DED-29D7-4568-B4E0-3DFFE59E2A77}"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84" name="" descr=""/>
          <p:cNvPicPr/>
          <p:nvPr/>
        </p:nvPicPr>
        <p:blipFill>
          <a:blip r:embed="rId1"/>
          <a:stretch/>
        </p:blipFill>
        <p:spPr>
          <a:xfrm>
            <a:off x="7667640" y="-100080"/>
            <a:ext cx="1368360" cy="1351080"/>
          </a:xfrm>
          <a:prstGeom prst="rect">
            <a:avLst/>
          </a:prstGeom>
          <a:ln w="0">
            <a:noFill/>
          </a:ln>
        </p:spPr>
      </p:pic>
      <p:sp>
        <p:nvSpPr>
          <p:cNvPr id="18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43DFE65-39DC-4875-86ED-EA8B634EA12F}"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8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0" name="" descr=""/>
          <p:cNvPicPr/>
          <p:nvPr/>
        </p:nvPicPr>
        <p:blipFill>
          <a:blip r:embed="rId1"/>
          <a:stretch/>
        </p:blipFill>
        <p:spPr>
          <a:xfrm>
            <a:off x="7667640" y="-100080"/>
            <a:ext cx="1368360" cy="1351080"/>
          </a:xfrm>
          <a:prstGeom prst="rect">
            <a:avLst/>
          </a:prstGeom>
          <a:ln w="0">
            <a:noFill/>
          </a:ln>
        </p:spPr>
      </p:pic>
      <p:sp>
        <p:nvSpPr>
          <p:cNvPr id="191" name=""/>
          <p:cNvSpPr/>
          <p:nvPr/>
        </p:nvSpPr>
        <p:spPr>
          <a:xfrm>
            <a:off x="468360" y="162864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pecificación de 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 final 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elado de 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agramas de interfa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2F6B218-CDE6-4310-9AF6-C24F62102CE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9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196" name="" descr=""/>
          <p:cNvPicPr/>
          <p:nvPr/>
        </p:nvPicPr>
        <p:blipFill>
          <a:blip r:embed="rId1"/>
          <a:stretch/>
        </p:blipFill>
        <p:spPr>
          <a:xfrm>
            <a:off x="7667640" y="-100080"/>
            <a:ext cx="1368360" cy="1351080"/>
          </a:xfrm>
          <a:prstGeom prst="rect">
            <a:avLst/>
          </a:prstGeom>
          <a:ln w="0">
            <a:noFill/>
          </a:ln>
        </p:spPr>
      </p:pic>
      <p:sp>
        <p:nvSpPr>
          <p:cNvPr id="19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specificación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asos de us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8" name="" descr=""/>
          <p:cNvPicPr/>
          <p:nvPr/>
        </p:nvPicPr>
        <p:blipFill>
          <a:blip r:embed="rId2"/>
          <a:stretch/>
        </p:blipFill>
        <p:spPr>
          <a:xfrm>
            <a:off x="3492360" y="1413000"/>
            <a:ext cx="5400720" cy="432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3EAB032-7777-4132-8D68-59E9AFA48B7D}"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03" name="" descr=""/>
          <p:cNvPicPr/>
          <p:nvPr/>
        </p:nvPicPr>
        <p:blipFill>
          <a:blip r:embed="rId1"/>
          <a:stretch/>
        </p:blipFill>
        <p:spPr>
          <a:xfrm>
            <a:off x="7667640" y="-100080"/>
            <a:ext cx="1368360" cy="1351080"/>
          </a:xfrm>
          <a:prstGeom prst="rect">
            <a:avLst/>
          </a:prstGeom>
          <a:ln w="0">
            <a:noFill/>
          </a:ln>
        </p:spPr>
      </p:pic>
      <p:sp>
        <p:nvSpPr>
          <p:cNvPr id="204"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ecuenci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2"/>
          <a:stretch/>
        </p:blipFill>
        <p:spPr>
          <a:xfrm>
            <a:off x="2050920" y="1773360"/>
            <a:ext cx="6769080" cy="3605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4829435-1594-4017-9785-C5D8A8D17AB2}"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0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0" name="" descr=""/>
          <p:cNvPicPr/>
          <p:nvPr/>
        </p:nvPicPr>
        <p:blipFill>
          <a:blip r:embed="rId1"/>
          <a:stretch/>
        </p:blipFill>
        <p:spPr>
          <a:xfrm>
            <a:off x="7667640" y="-100080"/>
            <a:ext cx="1368360" cy="1351080"/>
          </a:xfrm>
          <a:prstGeom prst="rect">
            <a:avLst/>
          </a:prstGeom>
          <a:ln w="0">
            <a:noFill/>
          </a:ln>
        </p:spPr>
      </p:pic>
      <p:sp>
        <p:nvSpPr>
          <p:cNvPr id="211"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 final</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 clas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3" name="" descr=""/>
          <p:cNvPicPr/>
          <p:nvPr/>
        </p:nvPicPr>
        <p:blipFill>
          <a:blip r:embed="rId2"/>
          <a:stretch/>
        </p:blipFill>
        <p:spPr>
          <a:xfrm>
            <a:off x="3419640" y="1268280"/>
            <a:ext cx="4608360" cy="456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2A3FF8C-9353-4E0D-976A-7D1F1BACB54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9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00" name="" descr=""/>
          <p:cNvPicPr/>
          <p:nvPr/>
        </p:nvPicPr>
        <p:blipFill>
          <a:blip r:embed="rId1"/>
          <a:stretch/>
        </p:blipFill>
        <p:spPr>
          <a:xfrm>
            <a:off x="7667640" y="-100080"/>
            <a:ext cx="1368360" cy="1351080"/>
          </a:xfrm>
          <a:prstGeom prst="rect">
            <a:avLst/>
          </a:prstGeom>
          <a:ln w="0">
            <a:noFill/>
          </a:ln>
        </p:spPr>
      </p:pic>
      <p:sp>
        <p:nvSpPr>
          <p:cNvPr id="101" name=""/>
          <p:cNvSpPr/>
          <p:nvPr/>
        </p:nvSpPr>
        <p:spPr>
          <a:xfrm>
            <a:off x="395280" y="1557360"/>
            <a:ext cx="8137440" cy="38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43C2A4C-CCBA-4643-B769-FFFBA70893D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18" name="" descr=""/>
          <p:cNvPicPr/>
          <p:nvPr/>
        </p:nvPicPr>
        <p:blipFill>
          <a:blip r:embed="rId1"/>
          <a:stretch/>
        </p:blipFill>
        <p:spPr>
          <a:xfrm>
            <a:off x="7667640" y="-100080"/>
            <a:ext cx="1368360" cy="1351080"/>
          </a:xfrm>
          <a:prstGeom prst="rect">
            <a:avLst/>
          </a:prstGeom>
          <a:ln w="0">
            <a:noFill/>
          </a:ln>
        </p:spPr>
      </p:pic>
      <p:sp>
        <p:nvSpPr>
          <p:cNvPr id="21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odelado d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at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222" name=""/>
          <p:cNvGraphicFramePr/>
          <p:nvPr/>
        </p:nvGraphicFramePr>
        <p:xfrm>
          <a:off x="3708360" y="1341360"/>
          <a:ext cx="3886200" cy="4535640"/>
        </p:xfrm>
        <a:graphic>
          <a:graphicData uri="http://schemas.openxmlformats.org/presentationml/2006/ole">
            <p:oleObj r:id="rId2" spid="">
              <p:embed/>
              <p:pic>
                <p:nvPicPr>
                  <p:cNvPr id="223" name="" descr=""/>
                  <p:cNvPicPr/>
                  <p:nvPr/>
                </p:nvPicPr>
                <p:blipFill>
                  <a:blip r:embed="rId3"/>
                  <a:stretch/>
                </p:blipFill>
                <p:spPr>
                  <a:xfrm>
                    <a:off x="3708360" y="1341360"/>
                    <a:ext cx="388620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C9C0C34-6015-4A8E-BF7B-A9FC8039AA1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2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28" name="" descr=""/>
          <p:cNvPicPr/>
          <p:nvPr/>
        </p:nvPicPr>
        <p:blipFill>
          <a:blip r:embed="rId1"/>
          <a:stretch/>
        </p:blipFill>
        <p:spPr>
          <a:xfrm>
            <a:off x="7667640" y="-100080"/>
            <a:ext cx="1368360" cy="1351080"/>
          </a:xfrm>
          <a:prstGeom prst="rect">
            <a:avLst/>
          </a:prstGeom>
          <a:ln w="0">
            <a:noFill/>
          </a:ln>
        </p:spPr>
      </p:pic>
      <p:sp>
        <p:nvSpPr>
          <p:cNvPr id="229"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1"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32" name="" descr=""/>
          <p:cNvPicPr/>
          <p:nvPr/>
        </p:nvPicPr>
        <p:blipFill>
          <a:blip r:embed="rId2"/>
          <a:stretch/>
        </p:blipFill>
        <p:spPr>
          <a:xfrm>
            <a:off x="900000" y="1862280"/>
            <a:ext cx="7682040" cy="387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44DFB3CF-B29E-4471-A846-3D5C6D834C8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7667640" y="-100080"/>
            <a:ext cx="1368360" cy="1351080"/>
          </a:xfrm>
          <a:prstGeom prst="rect">
            <a:avLst/>
          </a:prstGeom>
          <a:ln w="0">
            <a:noFill/>
          </a:ln>
        </p:spPr>
      </p:pic>
      <p:sp>
        <p:nvSpPr>
          <p:cNvPr id="238"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684360" y="1844640"/>
            <a:ext cx="7848360" cy="3941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C7779C2-C243-456D-8678-96D33DF56FE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4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a:t>
            </a:r>
            <a:endParaRPr b="0" lang="en-US" sz="2800" spc="-1" strike="noStrike">
              <a:solidFill>
                <a:srgbClr val="000000"/>
              </a:solidFill>
              <a:latin typeface="Times New Roman"/>
            </a:endParaRPr>
          </a:p>
        </p:txBody>
      </p:sp>
      <p:pic>
        <p:nvPicPr>
          <p:cNvPr id="246" name="" descr=""/>
          <p:cNvPicPr/>
          <p:nvPr/>
        </p:nvPicPr>
        <p:blipFill>
          <a:blip r:embed="rId1"/>
          <a:stretch/>
        </p:blipFill>
        <p:spPr>
          <a:xfrm>
            <a:off x="7667640" y="-100080"/>
            <a:ext cx="1368360" cy="1351080"/>
          </a:xfrm>
          <a:prstGeom prst="rect">
            <a:avLst/>
          </a:prstGeom>
          <a:ln w="0">
            <a:noFill/>
          </a:ln>
        </p:spPr>
      </p:pic>
      <p:sp>
        <p:nvSpPr>
          <p:cNvPr id="247"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iagramas de interfaz III</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0" name="" descr=""/>
          <p:cNvPicPr/>
          <p:nvPr/>
        </p:nvPicPr>
        <p:blipFill>
          <a:blip r:embed="rId2"/>
          <a:stretch/>
        </p:blipFill>
        <p:spPr>
          <a:xfrm>
            <a:off x="826920" y="1809720"/>
            <a:ext cx="7378920" cy="390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F43D527-BDF3-4C22-BD4B-1BD21761BAD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5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55" name="" descr=""/>
          <p:cNvPicPr/>
          <p:nvPr/>
        </p:nvPicPr>
        <p:blipFill>
          <a:blip r:embed="rId1"/>
          <a:stretch/>
        </p:blipFill>
        <p:spPr>
          <a:xfrm>
            <a:off x="7667640" y="-100080"/>
            <a:ext cx="1368360" cy="1351080"/>
          </a:xfrm>
          <a:prstGeom prst="rect">
            <a:avLst/>
          </a:prstGeom>
          <a:ln w="0">
            <a:noFill/>
          </a:ln>
        </p:spPr>
      </p:pic>
      <p:sp>
        <p:nvSpPr>
          <p:cNvPr id="256"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ADF0BDA-EAF5-472D-B22D-B199C9DE632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7667640" y="-100080"/>
            <a:ext cx="1368360" cy="1351080"/>
          </a:xfrm>
          <a:prstGeom prst="rect">
            <a:avLst/>
          </a:prstGeom>
          <a:ln w="0">
            <a:noFill/>
          </a:ln>
        </p:spPr>
      </p:pic>
      <p:sp>
        <p:nvSpPr>
          <p:cNvPr id="262" name=""/>
          <p:cNvSpPr/>
          <p:nvPr/>
        </p:nvSpPr>
        <p:spPr>
          <a:xfrm>
            <a:off x="324000" y="148428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mar decis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nología a utilizar</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canismo de almacenamiento de los datos de las configuracione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orma de trabajar con los datos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78DF4619-AACC-4BF7-B85E-0E07B21A517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6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69" name="" descr=""/>
          <p:cNvPicPr/>
          <p:nvPr/>
        </p:nvPicPr>
        <p:blipFill>
          <a:blip r:embed="rId1"/>
          <a:stretch/>
        </p:blipFill>
        <p:spPr>
          <a:xfrm>
            <a:off x="7667640" y="-100080"/>
            <a:ext cx="1368360" cy="1351080"/>
          </a:xfrm>
          <a:prstGeom prst="rect">
            <a:avLst/>
          </a:prstGeom>
          <a:ln w="0">
            <a:noFill/>
          </a:ln>
        </p:spPr>
      </p:pic>
      <p:sp>
        <p:nvSpPr>
          <p:cNvPr id="27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ecnología utilizada:</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ET</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Studio.NET 2003</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isual C#</a:t>
            </a:r>
            <a:endParaRPr b="0" lang="en-US" sz="2400" spc="-1" strike="noStrike">
              <a:solidFill>
                <a:srgbClr val="000000"/>
              </a:solidFill>
              <a:latin typeface="Times New Roman"/>
            </a:endParaRPr>
          </a:p>
        </p:txBody>
      </p:sp>
      <p:sp>
        <p:nvSpPr>
          <p:cNvPr id="27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B89D3ED-DC24-436C-8031-4CF9F78CA5F6}"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7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77" name="" descr=""/>
          <p:cNvPicPr/>
          <p:nvPr/>
        </p:nvPicPr>
        <p:blipFill>
          <a:blip r:embed="rId1"/>
          <a:stretch/>
        </p:blipFill>
        <p:spPr>
          <a:xfrm>
            <a:off x="7667640" y="-100080"/>
            <a:ext cx="1368360" cy="1351080"/>
          </a:xfrm>
          <a:prstGeom prst="rect">
            <a:avLst/>
          </a:prstGeom>
          <a:ln w="0">
            <a:noFill/>
          </a:ln>
        </p:spPr>
      </p:pic>
      <p:sp>
        <p:nvSpPr>
          <p:cNvPr id="278" name=""/>
          <p:cNvSpPr/>
          <p:nvPr/>
        </p:nvSpPr>
        <p:spPr>
          <a:xfrm>
            <a:off x="468360" y="1341360"/>
            <a:ext cx="822960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lmacenamiento de l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so de ficheros XML. ¿Por qué?</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piedades de XML</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s de .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tor de Visual Studio.NET</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ructura jerárquica de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s utilizados</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macenamiento de configuració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chero de persistencia</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0E10891A-FA46-4287-B6E4-B34BE81E6B6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8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LEMENTACIÓN</a:t>
            </a:r>
            <a:endParaRPr b="0" lang="en-US" sz="2800" spc="-1" strike="noStrike">
              <a:solidFill>
                <a:srgbClr val="000000"/>
              </a:solidFill>
              <a:latin typeface="Times New Roman"/>
            </a:endParaRPr>
          </a:p>
        </p:txBody>
      </p:sp>
      <p:pic>
        <p:nvPicPr>
          <p:cNvPr id="285" name="" descr=""/>
          <p:cNvPicPr/>
          <p:nvPr/>
        </p:nvPicPr>
        <p:blipFill>
          <a:blip r:embed="rId1"/>
          <a:stretch/>
        </p:blipFill>
        <p:spPr>
          <a:xfrm>
            <a:off x="7667640" y="-100080"/>
            <a:ext cx="1368360" cy="1351080"/>
          </a:xfrm>
          <a:prstGeom prst="rect">
            <a:avLst/>
          </a:prstGeom>
          <a:ln w="0">
            <a:noFill/>
          </a:ln>
        </p:spPr>
      </p:pic>
      <p:sp>
        <p:nvSpPr>
          <p:cNvPr id="286" name=""/>
          <p:cNvSpPr/>
          <p:nvPr/>
        </p:nvSpPr>
        <p:spPr>
          <a:xfrm>
            <a:off x="468360" y="1341360"/>
            <a:ext cx="8229600" cy="324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nejo de los datos de las configurac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Reade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lase XmlTextWriter</a:t>
            </a:r>
            <a:endParaRPr b="0" lang="en-US" sz="2400" spc="-1" strike="noStrike">
              <a:solidFill>
                <a:srgbClr val="000000"/>
              </a:solidFill>
              <a:latin typeface="Times New Roman"/>
            </a:endParaRPr>
          </a:p>
        </p:txBody>
      </p:sp>
      <p:sp>
        <p:nvSpPr>
          <p:cNvPr id="28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E465017-CA3B-4687-B9DC-D4BD5E57871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7667640" y="-100080"/>
            <a:ext cx="1368360" cy="1351080"/>
          </a:xfrm>
          <a:prstGeom prst="rect">
            <a:avLst/>
          </a:prstGeom>
          <a:ln w="0">
            <a:noFill/>
          </a:ln>
        </p:spPr>
      </p:pic>
      <p:sp>
        <p:nvSpPr>
          <p:cNvPr id="294"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ECE292C1-D6D5-4CBE-AAFC-A936252074E8}"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0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06" name="" descr=""/>
          <p:cNvPicPr/>
          <p:nvPr/>
        </p:nvPicPr>
        <p:blipFill>
          <a:blip r:embed="rId1"/>
          <a:stretch/>
        </p:blipFill>
        <p:spPr>
          <a:xfrm>
            <a:off x="7667640" y="-100080"/>
            <a:ext cx="1368360" cy="1351080"/>
          </a:xfrm>
          <a:prstGeom prst="rect">
            <a:avLst/>
          </a:prstGeom>
          <a:ln w="0">
            <a:noFill/>
          </a:ln>
        </p:spPr>
      </p:pic>
      <p:sp>
        <p:nvSpPr>
          <p:cNvPr id="107" name=""/>
          <p:cNvSpPr/>
          <p:nvPr/>
        </p:nvSpPr>
        <p:spPr>
          <a:xfrm>
            <a:off x="468360" y="1484280"/>
            <a:ext cx="8229600" cy="41054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yecto propuesto por el Grupo de Investigación en Reutilización y Orientación al Objeto (GIR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sarrollo de componentes software reutilizabl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minio de aplicación: Comunicación Alternativa y Aumentativa (CAA). </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inalidad: Reutilizar los componentes desarrollados en aplicaciones futu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E1C0EEC-8248-4F41-BE63-E8F52EC8EE5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29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299" name="" descr=""/>
          <p:cNvPicPr/>
          <p:nvPr/>
        </p:nvPicPr>
        <p:blipFill>
          <a:blip r:embed="rId1"/>
          <a:stretch/>
        </p:blipFill>
        <p:spPr>
          <a:xfrm>
            <a:off x="7667640" y="-100080"/>
            <a:ext cx="1368360" cy="1351080"/>
          </a:xfrm>
          <a:prstGeom prst="rect">
            <a:avLst/>
          </a:prstGeom>
          <a:ln w="0">
            <a:noFill/>
          </a:ln>
        </p:spPr>
      </p:pic>
      <p:sp>
        <p:nvSpPr>
          <p:cNvPr id="300"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37ADFBF5-46A1-46D5-81FF-F96013281B6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04"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05" name="" descr=""/>
          <p:cNvPicPr/>
          <p:nvPr/>
        </p:nvPicPr>
        <p:blipFill>
          <a:blip r:embed="rId1"/>
          <a:stretch/>
        </p:blipFill>
        <p:spPr>
          <a:xfrm>
            <a:off x="7667640" y="-100080"/>
            <a:ext cx="1368360" cy="1351080"/>
          </a:xfrm>
          <a:prstGeom prst="rect">
            <a:avLst/>
          </a:prstGeom>
          <a:ln w="0">
            <a:noFill/>
          </a:ln>
        </p:spPr>
      </p:pic>
      <p:sp>
        <p:nvSpPr>
          <p:cNvPr id="306"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íneas de trabajo futuras</a:t>
            </a:r>
            <a:endParaRPr b="0" lang="en-US" sz="2400" spc="-1" strike="noStrike">
              <a:solidFill>
                <a:srgbClr val="000000"/>
              </a:solidFill>
              <a:latin typeface="Times New Roman"/>
            </a:endParaRPr>
          </a:p>
        </p:txBody>
      </p:sp>
      <p:sp>
        <p:nvSpPr>
          <p:cNvPr id="30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08"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0D234A5-34FD-4345-9926-D4EAC3E5C979}"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12"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13" name="" descr=""/>
          <p:cNvPicPr/>
          <p:nvPr/>
        </p:nvPicPr>
        <p:blipFill>
          <a:blip r:embed="rId1"/>
          <a:stretch/>
        </p:blipFill>
        <p:spPr>
          <a:xfrm>
            <a:off x="7667640" y="-100080"/>
            <a:ext cx="1368360" cy="1351080"/>
          </a:xfrm>
          <a:prstGeom prst="rect">
            <a:avLst/>
          </a:prstGeom>
          <a:ln w="0">
            <a:noFill/>
          </a:ln>
        </p:spPr>
      </p:pic>
      <p:sp>
        <p:nvSpPr>
          <p:cNvPr id="314" name=""/>
          <p:cNvSpPr/>
          <p:nvPr/>
        </p:nvSpPr>
        <p:spPr>
          <a:xfrm>
            <a:off x="468360" y="148428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alcanzado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onente reutiliz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escritura basado en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dad de añadir nuevas configuracio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stema de barri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l component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sibilidad de elección de la configura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amigable y fácil de utilizar</a:t>
            </a:r>
            <a:endParaRPr b="0" lang="en-US" sz="2400" spc="-1" strike="noStrike">
              <a:solidFill>
                <a:srgbClr val="000000"/>
              </a:solidFill>
              <a:latin typeface="Times New Roman"/>
            </a:endParaRPr>
          </a:p>
        </p:txBody>
      </p:sp>
      <p:sp>
        <p:nvSpPr>
          <p:cNvPr id="315"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16"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803EBBAF-94BE-4BED-9775-25B565823C8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0"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1" name="" descr=""/>
          <p:cNvPicPr/>
          <p:nvPr/>
        </p:nvPicPr>
        <p:blipFill>
          <a:blip r:embed="rId1"/>
          <a:stretch/>
        </p:blipFill>
        <p:spPr>
          <a:xfrm>
            <a:off x="7667640" y="-100080"/>
            <a:ext cx="1368360" cy="1351080"/>
          </a:xfrm>
          <a:prstGeom prst="rect">
            <a:avLst/>
          </a:prstGeom>
          <a:ln w="0">
            <a:noFill/>
          </a:ln>
        </p:spPr>
      </p:pic>
      <p:sp>
        <p:nvSpPr>
          <p:cNvPr id="322"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ocimientos adquirid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ocimientos técnico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de metodologí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ortancia de las nuevas tecnologías para las personas discapacitadas</a:t>
            </a:r>
            <a:endParaRPr b="0" lang="en-US" sz="2400" spc="-1" strike="noStrike">
              <a:solidFill>
                <a:srgbClr val="000000"/>
              </a:solidFill>
              <a:latin typeface="Times New Roman"/>
            </a:endParaRPr>
          </a:p>
        </p:txBody>
      </p:sp>
      <p:sp>
        <p:nvSpPr>
          <p:cNvPr id="323"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24"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99C880F-33F4-4637-A2BA-2A2B9ECEF71E}"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328"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CLUSIONES</a:t>
            </a:r>
            <a:endParaRPr b="0" lang="en-US" sz="2800" spc="-1" strike="noStrike">
              <a:solidFill>
                <a:srgbClr val="000000"/>
              </a:solidFill>
              <a:latin typeface="Times New Roman"/>
            </a:endParaRPr>
          </a:p>
        </p:txBody>
      </p:sp>
      <p:pic>
        <p:nvPicPr>
          <p:cNvPr id="329" name="" descr=""/>
          <p:cNvPicPr/>
          <p:nvPr/>
        </p:nvPicPr>
        <p:blipFill>
          <a:blip r:embed="rId1"/>
          <a:stretch/>
        </p:blipFill>
        <p:spPr>
          <a:xfrm>
            <a:off x="7667640" y="-100080"/>
            <a:ext cx="1368360" cy="1351080"/>
          </a:xfrm>
          <a:prstGeom prst="rect">
            <a:avLst/>
          </a:prstGeom>
          <a:ln w="0">
            <a:noFill/>
          </a:ln>
        </p:spPr>
      </p:pic>
      <p:sp>
        <p:nvSpPr>
          <p:cNvPr id="330" name=""/>
          <p:cNvSpPr/>
          <p:nvPr/>
        </p:nvSpPr>
        <p:spPr>
          <a:xfrm>
            <a:off x="468360" y="1341360"/>
            <a:ext cx="8229600" cy="4392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íneas de trabajo futura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de nuevos componentes en el comunicador</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plicación para la creación de los ficheros XML</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2" name=""/>
          <p:cNvSpPr/>
          <p:nvPr/>
        </p:nvSpPr>
        <p:spPr>
          <a:xfrm>
            <a:off x="0" y="966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yecto Fin de Carrera</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336"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T.S. Ingeniería Informática</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 de Septiembre de 2006</a:t>
            </a:r>
            <a:endParaRPr b="0" lang="en-US" sz="2000" spc="-1" strike="noStrike">
              <a:solidFill>
                <a:srgbClr val="000000"/>
              </a:solidFill>
              <a:latin typeface="Times New Roman"/>
            </a:endParaRPr>
          </a:p>
        </p:txBody>
      </p:sp>
      <p:pic>
        <p:nvPicPr>
          <p:cNvPr id="337" name="" descr=""/>
          <p:cNvPicPr/>
          <p:nvPr/>
        </p:nvPicPr>
        <p:blipFill>
          <a:blip r:embed="rId1"/>
          <a:stretch/>
        </p:blipFill>
        <p:spPr>
          <a:xfrm>
            <a:off x="7667640" y="-100080"/>
            <a:ext cx="1368360" cy="1351080"/>
          </a:xfrm>
          <a:prstGeom prst="rect">
            <a:avLst/>
          </a:prstGeom>
          <a:ln w="0">
            <a:noFill/>
          </a:ln>
        </p:spPr>
      </p:pic>
      <p:sp>
        <p:nvSpPr>
          <p:cNvPr id="338" name=""/>
          <p:cNvSpPr/>
          <p:nvPr/>
        </p:nvSpPr>
        <p:spPr>
          <a:xfrm>
            <a:off x="250920" y="1557360"/>
            <a:ext cx="8642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79280" y="1341360"/>
            <a:ext cx="8785440" cy="434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DESARROLLO DE UN COMPONENTE TECLADO</a:t>
            </a:r>
            <a:endParaRPr b="0" lang="en-US" sz="36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UMNO: </a:t>
            </a:r>
            <a:r>
              <a:rPr b="1" lang="es-ES_tradnl" sz="2000" spc="-1" strike="noStrike">
                <a:solidFill>
                  <a:srgbClr val="000000"/>
                </a:solidFill>
                <a:latin typeface="Arial"/>
              </a:rPr>
              <a:t>Fco. Javier Sánchez Ramo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UTORES: </a:t>
            </a:r>
            <a:r>
              <a:rPr b="1" lang="es-ES_tradnl" sz="2000" spc="-1" strike="noStrike">
                <a:solidFill>
                  <a:srgbClr val="000000"/>
                </a:solidFill>
                <a:latin typeface="Arial"/>
              </a:rPr>
              <a:t>Miguel A. Laguna Serrano</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runo González-Baixauli</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F367415-EB21-43BC-B9B3-30ABC5FA34D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2" name="" descr=""/>
          <p:cNvPicPr/>
          <p:nvPr/>
        </p:nvPicPr>
        <p:blipFill>
          <a:blip r:embed="rId1"/>
          <a:stretch/>
        </p:blipFill>
        <p:spPr>
          <a:xfrm>
            <a:off x="7667640" y="-100080"/>
            <a:ext cx="1368360" cy="1351080"/>
          </a:xfrm>
          <a:prstGeom prst="rect">
            <a:avLst/>
          </a:prstGeom>
          <a:ln w="0">
            <a:noFill/>
          </a:ln>
        </p:spPr>
      </p:pic>
      <p:sp>
        <p:nvSpPr>
          <p:cNvPr id="113" name=""/>
          <p:cNvSpPr/>
          <p:nvPr/>
        </p:nvSpPr>
        <p:spPr>
          <a:xfrm>
            <a:off x="468360" y="1771560"/>
            <a:ext cx="8351640" cy="33861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ción de un tec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clado formado por distintas pantalla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9460AEB5-B7E4-4A23-A358-BDE46E67AEF1}"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17"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RODUCCIÓN</a:t>
            </a:r>
            <a:endParaRPr b="0" lang="en-US" sz="2800" spc="-1" strike="noStrike">
              <a:solidFill>
                <a:srgbClr val="000000"/>
              </a:solidFill>
              <a:latin typeface="Times New Roman"/>
            </a:endParaRPr>
          </a:p>
        </p:txBody>
      </p:sp>
      <p:pic>
        <p:nvPicPr>
          <p:cNvPr id="118" name="" descr=""/>
          <p:cNvPicPr/>
          <p:nvPr/>
        </p:nvPicPr>
        <p:blipFill>
          <a:blip r:embed="rId1"/>
          <a:stretch/>
        </p:blipFill>
        <p:spPr>
          <a:xfrm>
            <a:off x="7667640" y="-100080"/>
            <a:ext cx="1368360" cy="1351080"/>
          </a:xfrm>
          <a:prstGeom prst="rect">
            <a:avLst/>
          </a:prstGeom>
          <a:ln w="0">
            <a:noFill/>
          </a:ln>
        </p:spPr>
      </p:pic>
      <p:sp>
        <p:nvSpPr>
          <p:cNvPr id="119" name=""/>
          <p:cNvSpPr/>
          <p:nvPr/>
        </p:nvSpPr>
        <p:spPr>
          <a:xfrm>
            <a:off x="468360" y="1555920"/>
            <a:ext cx="8351640" cy="4321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roducción al proyecto:</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os formas de seleccionar un boton:</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lsación directa</a:t>
            </a:r>
            <a:endParaRPr b="0" lang="en-US" sz="2400" spc="-1" strike="noStrike">
              <a:solidFill>
                <a:srgbClr val="000000"/>
              </a:solidFill>
              <a:latin typeface="Times New Roman"/>
            </a:endParaRPr>
          </a:p>
          <a:p>
            <a:pPr lvl="4" marL="2209680" indent="-380880">
              <a:lnSpc>
                <a:spcPct val="10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arrido</a:t>
            </a:r>
            <a:endParaRPr b="0" lang="en-US" sz="2400" spc="-1" strike="noStrike">
              <a:solidFill>
                <a:srgbClr val="000000"/>
              </a:solidFill>
              <a:latin typeface="Times New Roman"/>
            </a:endParaRPr>
          </a:p>
          <a:p>
            <a:pPr lvl="4" marL="2209680" indent="-38088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 (comunicador)</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vilidad y autonomía: Pocket P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21B78A50-5A33-43C2-BBC6-AC6C1C6A9A9B}"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3"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un componente teclado</a:t>
            </a:r>
            <a:endParaRPr b="0" lang="en-US" sz="2000" spc="-1" strike="noStrike">
              <a:solidFill>
                <a:srgbClr val="000000"/>
              </a:solidFill>
              <a:latin typeface="Times New Roman"/>
            </a:endParaRPr>
          </a:p>
        </p:txBody>
      </p:sp>
      <p:pic>
        <p:nvPicPr>
          <p:cNvPr id="124" name="" descr=""/>
          <p:cNvPicPr/>
          <p:nvPr/>
        </p:nvPicPr>
        <p:blipFill>
          <a:blip r:embed="rId1"/>
          <a:stretch/>
        </p:blipFill>
        <p:spPr>
          <a:xfrm>
            <a:off x="7667640" y="-100080"/>
            <a:ext cx="1368360" cy="1351080"/>
          </a:xfrm>
          <a:prstGeom prst="rect">
            <a:avLst/>
          </a:prstGeom>
          <a:ln w="0">
            <a:noFill/>
          </a:ln>
        </p:spPr>
      </p:pic>
      <p:sp>
        <p:nvSpPr>
          <p:cNvPr id="125" name=""/>
          <p:cNvSpPr/>
          <p:nvPr/>
        </p:nvSpPr>
        <p:spPr>
          <a:xfrm>
            <a:off x="468360" y="1773360"/>
            <a:ext cx="8280360" cy="36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ntroducción</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s</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Análisis </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iseño</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Implement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Demostración</a:t>
            </a:r>
            <a:endParaRPr b="0" lang="en-US" sz="2400" spc="-1" strike="noStrike">
              <a:solidFill>
                <a:srgbClr val="000000"/>
              </a:solidFill>
              <a:latin typeface="Times New Roman"/>
            </a:endParaRPr>
          </a:p>
          <a:p>
            <a:pPr marL="609480" indent="-609480">
              <a:lnSpc>
                <a:spcPct val="100000"/>
              </a:lnSpc>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69696"/>
                </a:solidFill>
                <a:latin typeface="Arial"/>
              </a:rPr>
              <a:t>Conclusion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CCCF15C3-3E24-4A2E-933B-7C12C68AFE5A}"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29"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7667640" y="-100080"/>
            <a:ext cx="1368360" cy="1351080"/>
          </a:xfrm>
          <a:prstGeom prst="rect">
            <a:avLst/>
          </a:prstGeom>
          <a:ln w="0">
            <a:noFill/>
          </a:ln>
        </p:spPr>
      </p:pic>
      <p:sp>
        <p:nvSpPr>
          <p:cNvPr id="131" name=""/>
          <p:cNvSpPr/>
          <p:nvPr/>
        </p:nvSpPr>
        <p:spPr>
          <a:xfrm>
            <a:off x="468360" y="1557360"/>
            <a:ext cx="8229600" cy="2376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s principales:</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6727ED22-65A1-4E91-B89F-170AB16F42E0}"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35"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36" name="" descr=""/>
          <p:cNvPicPr/>
          <p:nvPr/>
        </p:nvPicPr>
        <p:blipFill>
          <a:blip r:embed="rId1"/>
          <a:stretch/>
        </p:blipFill>
        <p:spPr>
          <a:xfrm>
            <a:off x="7667640" y="-100080"/>
            <a:ext cx="1368360" cy="1351080"/>
          </a:xfrm>
          <a:prstGeom prst="rect">
            <a:avLst/>
          </a:prstGeom>
          <a:ln w="0">
            <a:noFill/>
          </a:ln>
        </p:spPr>
      </p:pic>
      <p:sp>
        <p:nvSpPr>
          <p:cNvPr id="137" name=""/>
          <p:cNvSpPr/>
          <p:nvPr/>
        </p:nvSpPr>
        <p:spPr>
          <a:xfrm>
            <a:off x="468360" y="1557360"/>
            <a:ext cx="8229600" cy="403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reación del componente</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caracter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ción de imágenes</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figur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tensi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erfaz fácil de usar y amigable</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0" y="1197000"/>
            <a:ext cx="917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0" y="595008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0" y="5950080"/>
            <a:ext cx="9144000" cy="934920"/>
          </a:xfrm>
          <a:prstGeom prst="rect">
            <a:avLst/>
          </a:prstGeom>
          <a:solidFill>
            <a:srgbClr val="0066ff"/>
          </a:solidFill>
          <a:ln w="0">
            <a:noFill/>
          </a:ln>
        </p:spPr>
        <p:style>
          <a:lnRef idx="0"/>
          <a:fillRef idx="0"/>
          <a:effectRef idx="0"/>
          <a:fontRef idx="minor"/>
        </p:style>
        <p:txBody>
          <a:bodyPr lIns="90000" rIns="90000" tIns="46800" bIns="46800" anchor="t">
            <a:no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co. Javier Sánchez Ram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fld id="{D66F4256-0C8C-442E-AFD5-338622719C35}" type="slidenum">
              <a:rPr b="0" lang="es-ES_tradnl" sz="2000" spc="-1" strike="noStrike">
                <a:solidFill>
                  <a:srgbClr val="000000"/>
                </a:solidFill>
                <a:latin typeface="Arial"/>
              </a:rPr>
              <a:t>&lt;number&gt;</a:t>
            </a:fld>
            <a:endParaRPr b="0" lang="en-US" sz="2000" spc="-1" strike="noStrike">
              <a:solidFill>
                <a:srgbClr val="000000"/>
              </a:solidFill>
              <a:latin typeface="Times New Roman"/>
            </a:endParaRPr>
          </a:p>
        </p:txBody>
      </p:sp>
      <p:sp>
        <p:nvSpPr>
          <p:cNvPr id="141" name=""/>
          <p:cNvSpPr/>
          <p:nvPr/>
        </p:nvSpPr>
        <p:spPr>
          <a:xfrm>
            <a:off x="0" y="-27000"/>
            <a:ext cx="9144000" cy="1224000"/>
          </a:xfrm>
          <a:prstGeom prst="rect">
            <a:avLst/>
          </a:prstGeom>
          <a:solidFill>
            <a:srgbClr val="0066ff"/>
          </a:solid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S</a:t>
            </a:r>
            <a:endParaRPr b="0" lang="en-US" sz="2800" spc="-1" strike="noStrike">
              <a:solidFill>
                <a:srgbClr val="000000"/>
              </a:solidFill>
              <a:latin typeface="Times New Roman"/>
            </a:endParaRPr>
          </a:p>
        </p:txBody>
      </p:sp>
      <p:pic>
        <p:nvPicPr>
          <p:cNvPr id="142" name="" descr=""/>
          <p:cNvPicPr/>
          <p:nvPr/>
        </p:nvPicPr>
        <p:blipFill>
          <a:blip r:embed="rId1"/>
          <a:stretch/>
        </p:blipFill>
        <p:spPr>
          <a:xfrm>
            <a:off x="7667640" y="-100080"/>
            <a:ext cx="1368360" cy="1351080"/>
          </a:xfrm>
          <a:prstGeom prst="rect">
            <a:avLst/>
          </a:prstGeom>
          <a:ln w="0">
            <a:noFill/>
          </a:ln>
        </p:spPr>
      </p:pic>
      <p:sp>
        <p:nvSpPr>
          <p:cNvPr id="143" name=""/>
          <p:cNvSpPr/>
          <p:nvPr/>
        </p:nvSpPr>
        <p:spPr>
          <a:xfrm>
            <a:off x="468360" y="2062080"/>
            <a:ext cx="8229600" cy="2879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ntegración en una aplicación</a:t>
            </a:r>
            <a:endParaRPr b="0" lang="en-US" sz="2400" spc="-1" strike="noStrike">
              <a:solidFill>
                <a:srgbClr val="000000"/>
              </a:solidFill>
              <a:latin typeface="Times New Roman"/>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bar el componente desarrollado</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productor de voz</a:t>
            </a:r>
            <a:endParaRPr b="0" lang="en-US" sz="2400" spc="-1" strike="noStrike">
              <a:solidFill>
                <a:srgbClr val="000000"/>
              </a:solidFill>
              <a:latin typeface="Times New Roman"/>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cción de configur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2T14:36:34Z</dcterms:created>
  <dc:creator>p.venero.martin</dc:creator>
  <dc:description>Blank Presentation. Accenture Firmwide Templates v10.0.</dc:description>
  <dc:language>en-US</dc:language>
  <cp:lastModifiedBy>Fco. Javier Sánchez</cp:lastModifiedBy>
  <dcterms:modified xsi:type="dcterms:W3CDTF">2006-09-26T13:26:02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