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07B6-6D9C-4F64-A667-0B76F75B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BD4D-8B19-4B4D-8F62-F9C82642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EFC9-33BA-455D-8576-4D5E4A28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71F2-4C91-4A29-A10C-B1249F74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0332-3975-4D60-B815-8AE50239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45FA-012F-4503-9901-CA1EAD8D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47A2-42C2-4F6E-9C44-928E0A60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2715-6F3D-44FC-91A5-27252A84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1F28-377C-4656-9CAB-FCFEA7E5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B646-BA59-41B4-BBB5-9172A685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BCA2-0D8C-4C02-A319-6A76FE7B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7385-8299-42FF-9302-9EFCCD8F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DB7D-5BC1-4F15-B440-B473FECB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6D2E-2CF8-4707-84C7-DA6B2D63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64B6-D329-44E9-95B3-E7164090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691A-3AF2-46D1-AAEE-39FAC55E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ED42-1FB4-48C9-8B17-9D6F97BE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3A61-627A-4FA0-A675-89293CAA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C0D-9827-4A70-BCF6-F99C97F8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E5E2-3A41-45DC-858D-14E813C1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A614-1919-47B0-8FE6-C6CB2D00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FF88-E66C-4004-A0C8-EBED8207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3F2C-8073-4ADD-BFF1-52528221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EBAF-4C40-4F7C-85A9-1F5F9782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9437-5756-4075-8DCE-6A4C4B8752A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C661-753D-4224-8251-B12F424A6D7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urier New"/>
              </a:rPr>
              <a:t>ESTUDIO DE LA SÍNTESIS DE VOZ Y SU APLICACIÓN AL SOFTWARE EDUCATIVO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Autor: Felipe Fernández Domínguez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Tutores: Miguel Ángel Laguna Serrano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Bruno González Baixauli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tesis de vo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ión teór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ternativas dispon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ternativas disponi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stiv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i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eeT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BRO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19640" y="4292640"/>
            <a:ext cx="20890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stiv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proyecto de Festival comenzó en 1994 en el centro de tecnologías del habla de la universidad de Edimburg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stival esta diseñado para permitir añadir nuevos módulos, fácil y eficientemente, sin que el desarrollador tenga que recorrer      camino ya and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l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ite fue diseñado como una alternativa a Festival que mejorara cuestiones claves para su uso en dispositivos móvi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jor portabilidad, tamaño y velocidad, al estar escrito completamente en C(no en C++ o Schem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eT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era los problemas de Flite de dependencia con las plataformas y sus compilad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escrito totalmente en Java, mantiene la arquitectura de Fli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BRO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proyecto MBROLA tiene un sintetizador de voz basado en la concatenación de difon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a de las bases de datos de difonos disponibles en español fue desarrollada por profesores de la U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6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16360" y="3789360"/>
            <a:ext cx="275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692280"/>
            <a:ext cx="792468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faces de Usuario con personajes animado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820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agentes animados con interfaces conversacionales proporcionan un paradigma intuitivo de interacción ya que el usuario no necesita adquirir nuevos conocimien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s usuarios encuentran estos sistemas más amigables y cooperativo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867280" y="4653000"/>
            <a:ext cx="18608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de Microsoft 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á disponible en la red para descargarlo gratuitamente y puede ser empleado por los desarrolladores en sus aplicaciones sin coste de derechos de aut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de Microsoft Agent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interfaz de programación de aplicación (API) de Microsoft Agent proporciona servicios de programación entre los que destacan: la habilidad de cargar un personaje, ejecutar una animación, hablar usando un sintetizador de voz y aceptar entrada de voz del usuari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9120" y="2563920"/>
            <a:ext cx="1682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ados de las entrevist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s entrevistados fueron estudiantes de la facultad de Magisterio y monitores de ocio y tiempo lib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cesidad de una aplicación amena e intuiti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agrama general de casos de us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69138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agrama inicial de cl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568944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ugar cu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80920" y="2997360"/>
            <a:ext cx="6786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ugar imáge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42920" y="2362320"/>
            <a:ext cx="6624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agrama de clases fi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1341000"/>
            <a:ext cx="79246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ugar ing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55640" y="2362320"/>
            <a:ext cx="6840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render el proceso de síntesis de voz desde un punto de vista teórico y los sintetizadores disponib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udio en profundidad de las interfaces animadas, centrándonos en Microsoft Ag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lización de una aplicación que sirva como introducción al mundo del PC para niños de educación primar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stración de ges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67694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lemen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orno de desarrollo: Microsoft Visual Studio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nguaje de programación:C#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quete de servicios:Microsoft Agent 2.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gent 2.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Show(null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MoveTo(50,50,null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Speak("Hola buenas tardes",null 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haracter.Hide(5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arrollo de la 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álisis del sistema. Definición del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ueb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ueb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697800" cy="1263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71640" y="4724280"/>
            <a:ext cx="6553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icultades encontrad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s opciones disponibles en síntesis de voz no son tant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 encima añades idioma español,bajo Windows y libre las dificultades son may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portabilidad de sistemas desarrollados en Linux a Windows no es trivia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ibles mejor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nocimiento del hab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arrollo en aplicaciones w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roducción de nuevo element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ftware educati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tes enfoques dependiendo del alumno al que vaya dirigi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infantil: estimulación sensorial y conocimiento del entor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primaria: basado en el desarrollo de capacidades como memoria, concentración, razonamiento lógico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ducación especial: Proyecto Fres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yecto Fres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676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Í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oftware educ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íntesis de vo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rfaces animad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 de la apl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íntesis de vo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18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isión teór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ternativas disponib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788000" y="3357720"/>
            <a:ext cx="287964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sión teór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nt-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a como entrada un texto y produce una representación lingüística foné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rmalizacion de texto o preprocesa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xto a fon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-e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ma como entrada la representación lingüística y produce una forma de onda sintetiza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7:31:05Z</dcterms:created>
  <dc:creator>02_Felipe</dc:creator>
  <dc:description/>
  <dc:language>en-US</dc:language>
  <cp:lastModifiedBy>02_Felipe</cp:lastModifiedBy>
  <dcterms:modified xsi:type="dcterms:W3CDTF">2006-09-26T10:46:17Z</dcterms:modified>
  <cp:revision>20</cp:revision>
  <dc:subject/>
  <dc:title>ESTUDIO DE LA SINTESIS DE VOZ Y SU APLICACIÓN AL SOFTWARE EDUCATIVO </dc:title>
</cp:coreProperties>
</file>