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808-4A89-493A-8E31-26F3CBE7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09C-F022-41EB-9F69-F36F003A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10D-526E-4AD1-9C91-93130E59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4C3-592E-462D-9B3A-EEE8A8FF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F6D8-3039-4BA4-ADBC-E564BC21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23C9-D3D8-4A57-95B6-089943BF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3B5C-8A85-480F-8E69-2F1B80DF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3026-58BE-4041-A8CF-ED3ADAFC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1E47-C8F5-4DB8-8583-CE87616B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4C96-8AAA-4C28-97E4-CFA2605E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6D24-C1C0-43D7-9727-D6DF57C4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044E-311A-41EE-B881-72D6B5AE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8B3E-40D9-4EBC-AA71-4A198214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786F-E5A2-499A-B094-4FE65329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C252-6869-4057-96BF-9062B45D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A0D8-11C6-4C6A-B9FC-939EEE1D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41C0-EA71-4DA0-8160-6ECE3383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25E-EFE8-40E3-9AE5-7661077E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7856-D8D9-4E3F-8FA9-A723ABE9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2FA4-1AA5-4715-9785-F7C81868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2A7-0D8F-495E-AA35-F1F50D87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0581-CC2A-4B78-B36D-258C93D2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F95-59BA-47E4-821C-7248257C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899-5A23-4147-B951-38EE82EE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53EB-4D97-4D75-A03E-FB98CAE079F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C328-A3A8-486F-9EE2-D13079FD0BA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urier New"/>
              </a:rPr>
              <a:t>ESTUDIO DE LA SÍNTESIS DE VOZ Y SU APLICACIÓN AL SOFTWARE EDUCATIVO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utor: Felipe Fernández Domínguez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utores: Miguel Ángel Laguna Serran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Bruno González Baixauli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as dispon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stiv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eT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BRO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4292640"/>
            <a:ext cx="2089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stiv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de Festival comenzó en 1994 en el centro de tecnologías del habla de la universidad de Edimbur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stival esta diseñado para permitir añadir nuevos módulos, fácil y eficientemente, sin que el desarrollador tenga que recorrer      camino ya and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ite fue diseñado como una alternativa a Festival que mejorara cuestiones claves para su uso en dispositivos móvi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jor portabilidad, tamaño y velocidad, al estar escrito completamente en C(no en C++ o Sche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eT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a los problemas de Flite de dependencia con las plataformas y sus compilad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escrito totalmente en Java, mantiene la arquitectura de Fl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BRO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MBROLA tiene un sintetizador de voz basado en la concatenación de difon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a de las bases de datos de difonos disponibles en español fue desarrollada por profesores de la U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6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16360" y="3789360"/>
            <a:ext cx="275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692280"/>
            <a:ext cx="79246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faces de Usuario con personajes animado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82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agentes animados con interfaces conversacionales proporcionan un paradigma intuitivo de interacción ya que el usuario no necesita adquirir nuevos conocimien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usuarios encuentran estos sistemas más amigables y cooperativ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67280" y="4653000"/>
            <a:ext cx="1860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á disponible en la red para descargarlo gratuitamente y puede ser empleado por los desarrolladores en sus aplicaciones sin coste de derechos de aut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interfaz de programación de aplicación (API) de Microsoft Agent proporciona servicios de programación entre los que destacan: la habilidad de cargar un personaje, ejecutar una animación, hablar usando un sintetizador de voz y aceptar entrada de voz del usuari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9120" y="2563920"/>
            <a:ext cx="1682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ados de las entrevist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s entrevistados fueron estudiantes de la facultad de Magisterio y monitores de ocio y tiempo lib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cesidad de una aplicación amena e intuiti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general de casos de us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6913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rama inicial de cl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56894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gar cu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80920" y="2997360"/>
            <a:ext cx="678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mág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2362320"/>
            <a:ext cx="6624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de clases fi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ng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2362320"/>
            <a:ext cx="6840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nder el proceso de síntesis de voz desde un punto de vista teórico y los sintetizadores disponib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udio en profundidad de las interfaces animadas, centrándonos en Microsoft Ag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lización de una aplicación que sirva como introducción al mundo del PC para niños de educación primar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stración de ge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orno de desarrollo: Microsoft Visual Studio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nguaje de programación:C#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quete de servicios:Microsoft Agent 2.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gent 2.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how(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MoveTo(50,50,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peak("Hola buenas tardes",null 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Hide(5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ueb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697800" cy="126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6553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icultades encontr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opciones disponibles en síntesis de voz no son tant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 encima añades idioma español,bajo Windows y libre las dificultades son may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portabilidad de sistemas desarrollados en Linux a Windows no es trivia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ibles mejor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nocimiento del hab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arrollo en aplicaciones 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oducción de nuevo elemen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educ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tes enfoques dependiendo del alumno al que vaya dirig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infantil: estimulación sensorial y conocimiento del entor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primaria: basado en el desarrollo de capacidades como memoria, concentración, razonamiento lógico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especial: Proyecto Fres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yecto Fres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76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18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2879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ión teór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nt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un texto y produce una representación lingüística foné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alizacion de texto o preproces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o a fon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la representación lingüística y produce una forma de onda sintetiz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7:31:05Z</dcterms:created>
  <dc:creator>02_Felipe</dc:creator>
  <dc:description/>
  <dc:language>en-US</dc:language>
  <cp:lastModifiedBy>02_Felipe</cp:lastModifiedBy>
  <dcterms:modified xsi:type="dcterms:W3CDTF">2006-09-26T10:46:17Z</dcterms:modified>
  <cp:revision>20</cp:revision>
  <dc:subject/>
  <dc:title>ESTUDIO DE LA SINTESIS DE VOZ Y SU APLICACIÓN AL SOFTWARE EDUCATIVO </dc:title>
</cp:coreProperties>
</file>