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E4F7-CF95-4E12-8C09-44478D46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7CD7-30AF-4A25-8CE1-E063EFF1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19AB-76A3-4243-9A30-F5AF5AB6A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38A1-3F78-4887-903E-C4F608226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DA8B-57D0-4066-B0F3-D93A8BC07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DDC7-11A3-47C0-AAF7-64071A2B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8EE6-53A7-4736-94E8-33EDEF6B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1A82-1E0C-4A19-998F-9F147C0A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36A0-3360-4E37-97DC-8D35650E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D624-C71C-4DD8-8596-FE0E4C7D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3F9E-D397-4F27-83C5-21E25985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A6D8-1DDA-4C00-90A4-44CBDFB5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F283-AE32-425D-9512-D2A7BD10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7832-446D-46AA-B9AD-9C0207DF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72FB-0B7D-459A-8BAE-BD03C55A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1117-E67C-416F-ABBC-27A8F14D7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F789-6A3E-4977-8AD9-C68994C57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B7EE-5654-4951-944F-BB0CC3EB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4F2D-AF26-473E-9C4E-77FF59A2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A527-2E55-470C-97E7-E6B5186D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29F7-2227-456D-AE5C-84B9F26F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3D07-188B-4E77-A84A-38718DC7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8194-9924-49F4-93C3-692040B6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71FE-48C2-42E8-B989-2E41EE12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110F-E23B-4CB5-B81C-641F94E9A6C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D58B-C61D-4C46-A37D-E5B811A1663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urier New"/>
              </a:rPr>
              <a:t>ESTUDIO DE LA SÍNTESIS DE VOZ Y SU APLICACIÓN AL SOFTWARE EDUCATIVO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Autor: Felipe Fernández Domínguez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Tutores: Miguel Ángel Laguna Serrano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Bruno González Baixauli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íntesis de vo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sión teór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lternativas dispon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ternativas disponi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estiv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i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reeT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BROL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219640" y="4292640"/>
            <a:ext cx="208908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estiv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proyecto de Festival comenzó en 1994 en el centro de tecnologías del habla de la universidad de Edimburg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stival esta diseñado para permitir añadir nuevos módulos, fácil y eficientemente, sin que el desarrollador tenga que recorrer      camino ya anda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li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lite fue diseñado como una alternativa a Festival que mejorara cuestiones claves para su uso en dispositivos móvi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jor portabilidad, tamaño y velocidad, al estar escrito completamente en C(no en C++ o Schem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eeT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era los problemas de Flite de dependencia con las plataformas y sus compilador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escrito totalmente en Java, mantiene la arquitectura de Fli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BROL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proyecto MBROLA tiene un sintetizador de voz basado en la concatenación de difon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a de las bases de datos de difonos disponibles en español fue desarrollada por profesores de la UV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46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716360" y="3789360"/>
            <a:ext cx="2754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692280"/>
            <a:ext cx="792468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erfaces de Usuario con personajes animado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820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Los agentes animados con interfaces conversacionales proporcionan un paradigma intuitivo de interacción ya que el usuario no necesita adquirir nuevos conocimient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Los usuarios encuentran estos sistemas más amigables y cooperativo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867280" y="4653000"/>
            <a:ext cx="18608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racterísticas de Microsoft Agent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á disponible en la red para descargarlo gratuitamente y puede ser empleado por los desarrolladores en sus aplicaciones sin coste de derechos de aut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racterísticas de Microsoft Agent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 interfaz de programación de aplicación (API) de Microsoft Agent proporciona servicios de programación entre los que destacan: la habilidad de cargar un personaje, ejecutar una animación, hablar usando un sintetizador de voz y aceptar entrada de voz del usuario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9120" y="2563920"/>
            <a:ext cx="1682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ultados de las entrevist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s entrevistados fueron estudiantes de la facultad de Magisterio y monitores de ocio y tiempo lib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cesidad de una aplicación amena e intuitiv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agrama general de casos de us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69138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agrama inicial de cl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476360" y="2421000"/>
            <a:ext cx="568944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ugar cuen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80920" y="2997360"/>
            <a:ext cx="6786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280" y="134100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ugar imágen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42920" y="2362320"/>
            <a:ext cx="6624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280" y="134100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agrama de clases fin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67694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280" y="134100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ugar ingl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55640" y="2362320"/>
            <a:ext cx="6840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tiv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render el proceso de síntesis de voz desde un punto de vista teórico y los sintetizadores disponib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udio en profundidad de las interfaces animadas, centrándonos en Microsoft Ag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lización de una aplicación que sirva como introducción al mundo del PC para niños de educación primar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mostración de gest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67694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mplement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torno de desarrollo: Microsoft Visual Studio.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nguaje de programación:C#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quete de servicios:Microsoft Agent 2.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Agent 2.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Show(null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MoveTo(50,50,null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Speak("Hola buenas tardes",null 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Hide(5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ueb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6697800" cy="1263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971640" y="4724280"/>
            <a:ext cx="65530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ficultades encontrad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s opciones disponibles en síntesis de voz no son tant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 encima añades idioma español,bajo Windows y libre las dificultades son mayor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 portabilidad de sistemas desarrollados en Linux a Windows no es trivial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sibles mejor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onocimiento del hab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arrollo en aplicaciones we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roducción de nuevo element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ftware educativ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ferentes enfoques dependiendo del alumno al que vaya dirigi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ducación infantil: estimulación sensorial y conocimiento del entor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ducación primaria: basado en el desarrollo de capacidades como memoria, concentración, razonamiento lógico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ducación especial: Proyecto Fress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yecto Fress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6769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íntesis de vo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418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isión teór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ternativas disponib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788000" y="3357720"/>
            <a:ext cx="287964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isión teór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nt-e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ma como entrada un texto y produce una representación lingüística fonét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rmalizacion de texto o preprocesa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xto a fone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k-e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ma como entrada la representación lingüística y produce una forma de onda sintetiza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07:31:05Z</dcterms:created>
  <dc:creator>02_Felipe</dc:creator>
  <dc:description/>
  <dc:language>en-US</dc:language>
  <cp:lastModifiedBy>02_Felipe</cp:lastModifiedBy>
  <dcterms:modified xsi:type="dcterms:W3CDTF">2006-09-26T10:46:17Z</dcterms:modified>
  <cp:revision>20</cp:revision>
  <dc:subject/>
  <dc:title>ESTUDIO DE LA SINTESIS DE VOZ Y SU APLICACIÓN AL SOFTWARE EDUCATIVO </dc:title>
</cp:coreProperties>
</file>