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557-B43A-4846-AAFC-65F16822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DCB-2DFF-434B-8DF3-CE9D2928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A9A-04C7-411C-B47F-F71BCD71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0E0-1B94-403C-8B99-31CFDD38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B8DF-72C6-4D94-B371-5F992615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FAE5-15BE-4FB4-981A-9FEF8869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EF62-3E5B-4DB1-8665-D04841BB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CADE-0915-4188-82D4-63A526C6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1367-7A9E-41B9-90C0-64947EDD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A569-4842-4809-B183-DBA456F2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F540-73C2-40FA-B139-3F20DF08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3CA-204B-471E-A210-37CB4DDD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E746-0714-4DE2-9A93-467DF9E1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1A80-E2D1-4D58-9BD4-BF1181F8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B4F9-FE01-41C2-9A2C-A9C75512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AEB3-5E84-44E4-BF96-48BA540F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93B3-C19A-46C8-8E6A-415729FE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F646-BFB1-4339-9ACD-E99AF028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D9B-6259-4E5A-A4DA-7BF3EFD7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540-552A-4DF5-BD73-399B8121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8B6-A7E0-4F93-8589-929532F6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F1A-5F28-4709-8300-9F513111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E36E-B59E-43F2-B883-32CE4816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518-3D64-4049-9602-B634F1B5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B826-E885-40A7-9B52-663481C6614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D249-928A-40E2-BD42-0C7AD322B30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urier New"/>
              </a:rPr>
              <a:t>ESTUDIO DE LA SÍNTESIS DE VOZ Y SU APLICACIÓN AL SOFTWARE EDUCATIVO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utor: Felipe Fernández Domínguez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utores: Miguel Ángel Laguna Serran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Bruno González Baixauli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as dispon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T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BRO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4292640"/>
            <a:ext cx="2089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stiv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de Festival comenzó en 1994 en el centro de tecnologías del habla de la universidad de Edimbur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stival esta diseñado para permitir añadir nuevos módulos, fácil y eficientemente, sin que el desarrollador tenga que recorrer      camino ya and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ite fue diseñado como una alternativa a Festival que mejorara cuestiones claves para su uso en dispositivos móvi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jor portabilidad, tamaño y velocidad, al estar escrito completamente en C(no en C++ o Sche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T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a los problemas de Flite de dependencia con las plataformas y sus compilad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escrito totalmente en Java, mantiene la arquitectura de Fl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BRO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MBROLA tiene un sintetizador de voz basado en la concatenación de difon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 de las bases de datos de difonos disponibles en español fue desarrollada por profesores de la U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6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6360" y="3789360"/>
            <a:ext cx="27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692280"/>
            <a:ext cx="79246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aces de Usuario con personajes animado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82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agentes animados con interfaces conversacionales proporcionan un paradigma intuitivo de interacción ya que el usuario no necesita adquirir nuevos conocimien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usuarios encuentran estos sistemas más amigables y cooperativ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1860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á disponible en la red para descargarlo gratuitamente y puede ser empleado por los desarrolladores en sus aplicaciones sin coste de derechos de au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interfaz de programación de aplicación (API) de Microsoft Agent proporciona servicios de programación entre los que destacan: la habilidad de cargar un personaje, ejecutar una animación, hablar usando un sintetizador de voz y aceptar entrada de voz del usuari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9120" y="2563920"/>
            <a:ext cx="168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ados de las entrevist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 entrevistados fueron estudiantes de la facultad de Magisterio y monitores de ocio y tiempo lib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cesidad de una aplicación amena e intuiti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general de casos de u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6913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rama inicial de cl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6894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gar cu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80920" y="2997360"/>
            <a:ext cx="678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mág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2362320"/>
            <a:ext cx="662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de clases fi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ng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2362320"/>
            <a:ext cx="684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nder el proceso de síntesis de voz desde un punto de vista teórico y los sintetizadores disponi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udio en profundidad de las interfaces animadas, centrándonos en Microsoft Ag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ización de una aplicación que sirva como introducción al mundo del PC para niños de educación primar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stración de ge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orno de desarrollo: Microsoft Visual Studio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nguaje de programación:C#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quete de servicios:Microsoft Agent 2.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gent 2.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how(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MoveTo(50,50,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peak("Hola buenas tardes",null 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Hide(5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ueb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697800" cy="126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6553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icultades encontr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opciones disponibles en síntesis de voz no son tant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 encima añades idioma español,bajo Windows y libre las dificultades son may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portabilidad de sistemas desarrollados en Linux a Windows no es trivia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ibles mejo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nocimiento del hab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arrollo en aplicaciones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oducción de nuevo elemen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educ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tes enfoques dependiendo del alumno al que vaya dirig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infantil: estimulación sensorial y conocimiento del ent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primaria: basado en el desarrollo de capacidades como memoria, concentración, razonamiento lógico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especial: Proyecto Fres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yecto Fre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76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18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2879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ión teó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nt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un texto y produce una representación lingüística foné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izacion de texto o preproces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o a fon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la representación lingüística y produce una forma de onda sinteti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7:31:05Z</dcterms:created>
  <dc:creator>02_Felipe</dc:creator>
  <dc:description/>
  <dc:language>en-US</dc:language>
  <cp:lastModifiedBy>02_Felipe</cp:lastModifiedBy>
  <dcterms:modified xsi:type="dcterms:W3CDTF">2006-09-26T10:46:17Z</dcterms:modified>
  <cp:revision>20</cp:revision>
  <dc:subject/>
  <dc:title>ESTUDIO DE LA SINTESIS DE VOZ Y SU APLICACIÓN AL SOFTWARE EDUCATIVO </dc:title>
</cp:coreProperties>
</file>