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8ECC-E488-4223-B249-3B31E9442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5DEE-039E-4F35-8BD2-3BE2614E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E229-19E8-42A3-BF08-A69A4D699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15FC-00AC-4254-90BB-01FB19A11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23D6-D462-4693-9681-34CBEC43E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77ED-000B-48B3-9654-4C54FFF4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3F42-827A-4246-AF44-43718843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482D-B4D4-469C-AA1F-FDF5A81F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02CA-3854-4F3B-B849-8C6AC938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E5BE-C5DC-49D7-BF44-EA415D58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CC03-287C-4493-A9CF-F1557399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5FED-3A63-4A33-8CD3-E41B3453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B145-D4A3-4E7B-B281-F1D1D9E2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0976-EDDB-4753-B16B-37BCBA4E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AAEB-6911-46A8-9124-95C3E288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0F36-EF87-4260-B8C3-13DE5D85A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9FA2-83F7-4011-BE11-84FC20E46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A2C8-2770-4DE6-B8F5-7DA0D978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6D73-1DA2-42BE-857B-8FA9AF94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96CA-400A-4953-9852-5055A327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1255-89C3-42CC-B804-42E83A5F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3269-BF8D-40EB-B5C4-F1B67592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5CF6-CB9F-45E3-914C-68261761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FC5F-EF6E-4ADA-9E37-6B367879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246A-B9B9-4529-BC83-71D52FCF6C2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DE83-A0C8-4F65-A56A-F5DC8471BD4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urier New"/>
              </a:rPr>
              <a:t>ESTUDIO DE LA SÍNTESIS DE VOZ Y SU APLICACIÓN AL SOFTWARE EDUCATIVO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Autor: Felipe Fernández Domínguez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Tutores: Miguel Ángel Laguna Serrano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Bruno González Baixauli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íntesis de vo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sión teór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lternativas dispon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ternativas disponi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estiv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i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reeT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BROL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219640" y="4292640"/>
            <a:ext cx="208908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estiv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proyecto de Festival comenzó en 1994 en el centro de tecnologías del habla de la universidad de Edimburg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stival esta diseñado para permitir añadir nuevos módulos, fácil y eficientemente, sin que el desarrollador tenga que recorrer      camino ya anda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li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lite fue diseñado como una alternativa a Festival que mejorara cuestiones claves para su uso en dispositivos móvi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jor portabilidad, tamaño y velocidad, al estar escrito completamente en C(no en C++ o Schem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eeT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era los problemas de Flite de dependencia con las plataformas y sus compilador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escrito totalmente en Java, mantiene la arquitectura de Fli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BROL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proyecto MBROLA tiene un sintetizador de voz basado en la concatenación de difon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a de las bases de datos de difonos disponibles en español fue desarrollada por profesores de la UV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46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716360" y="3789360"/>
            <a:ext cx="2754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692280"/>
            <a:ext cx="792468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erfaces de Usuario con personajes animado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820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Los agentes animados con interfaces conversacionales proporcionan un paradigma intuitivo de interacción ya que el usuario no necesita adquirir nuevos conocimient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Los usuarios encuentran estos sistemas más amigables y cooperativo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867280" y="4653000"/>
            <a:ext cx="18608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racterísticas de Microsoft Agent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á disponible en la red para descargarlo gratuitamente y puede ser empleado por los desarrolladores en sus aplicaciones sin coste de derechos de aut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racterísticas de Microsoft Agent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 interfaz de programación de aplicación (API) de Microsoft Agent proporciona servicios de programación entre los que destacan: la habilidad de cargar un personaje, ejecutar una animación, hablar usando un sintetizador de voz y aceptar entrada de voz del usuario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9120" y="2563920"/>
            <a:ext cx="1682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ultados de las entrevist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s entrevistados fueron estudiantes de la facultad de Magisterio y monitores de ocio y tiempo lib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cesidad de una aplicación amena e intuitiv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agrama general de casos de us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69138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agrama inicial de cl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476360" y="2421000"/>
            <a:ext cx="568944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ugar cuen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80920" y="2997360"/>
            <a:ext cx="6786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280" y="134100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ugar imágen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42920" y="2362320"/>
            <a:ext cx="6624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280" y="134100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agrama de clases fin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67694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280" y="134100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ugar ingl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55640" y="2362320"/>
            <a:ext cx="6840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tiv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render el proceso de síntesis de voz desde un punto de vista teórico y los sintetizadores disponib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udio en profundidad de las interfaces animadas, centrándonos en Microsoft Ag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lización de una aplicación que sirva como introducción al mundo del PC para niños de educación primar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mostración de gest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67694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mplement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torno de desarrollo: Microsoft Visual Studio.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nguaje de programación:C#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quete de servicios:Microsoft Agent 2.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Agent 2.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Show(null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MoveTo(50,50,null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Speak("Hola buenas tardes",null 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Hide(5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ueb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6697800" cy="1263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971640" y="4724280"/>
            <a:ext cx="65530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icultades encontrad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s opciones disponibles en síntesis de voz no son tant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 encima añades idioma español,bajo Windows y libre las dificultades son mayor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 portabilidad de sistemas desarrollados en Linux a Windows no es trivial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sibles mejor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onocimiento del hab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arrollo en aplicaciones we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roducción de nuevo element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ftware educativ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ferentes enfoques dependiendo del alumno al que vaya dirigi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ducación infantil: estimulación sensorial y conocimiento del entor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ducación primaria: basado en el desarrollo de capacidades como memoria, concentración, razonamiento lógico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ducación especial: Proyecto Fress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yecto Fress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6769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íntesis de vo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418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isión teór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ternativas disponib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788000" y="3357720"/>
            <a:ext cx="287964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isión teór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nt-e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ma como entrada un texto y produce una representación lingüística fonét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rmalizacion de texto o preprocesa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xto a fone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-e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ma como entrada la representación lingüística y produce una forma de onda sintetiza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07:31:05Z</dcterms:created>
  <dc:creator>02_Felipe</dc:creator>
  <dc:description/>
  <dc:language>en-US</dc:language>
  <cp:lastModifiedBy>02_Felipe</cp:lastModifiedBy>
  <dcterms:modified xsi:type="dcterms:W3CDTF">2006-09-26T10:46:17Z</dcterms:modified>
  <cp:revision>20</cp:revision>
  <dc:subject/>
  <dc:title>ESTUDIO DE LA SINTESIS DE VOZ Y SU APLICACIÓN AL SOFTWARE EDUCATIVO </dc:title>
</cp:coreProperties>
</file>