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13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5.png" ContentType="image/png"/>
  <Override PartName="/ppt/media/image10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CF6AA-6FC3-4938-A2EA-93B32B8D1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ECFB6-C017-426C-BDF7-9C3BC9C71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7246D-596D-49D2-8E41-1C30A3387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D5B22-AEC5-4184-9784-FA1876DB9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19FD9-3CB6-4180-887F-C7508DC96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E2FCC-11E0-42BC-BDE8-ADA356D51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47184-3C63-44B4-AB4E-C3DEA60A5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DD8F8-1BA4-4E05-A7A8-33A127D35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0DB49-AC52-4D0E-BDAF-DD8937199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8267C-92A9-47B6-BAEB-4E32705AB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27CFC-5F6B-44D6-BAB9-43C2916E2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09D19-B7AC-4A7E-A7E5-305B06F43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D7175-7FD7-4217-AE47-1DA8EE9F0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8EA2F-A3E4-4CED-A882-8BF5EC5DB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819AB-792F-41DD-97B1-EFE4BD46E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E77C7-870F-4A0B-9A29-EF5B7960C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799C9-031B-43EC-AD2A-2BF0B41E0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6B44C-BC32-40D7-80CF-F3B1F9C8E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2D3AE-A3E1-46B7-AA13-72801A823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5436C-C75B-4ACE-8D3C-C30CD3247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B5F05-02CF-414B-82A9-55A1B2969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2E8CF-5F0B-414E-A9C2-F94BB6B6E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D4613-9343-47AB-BB32-237C51B9D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FD569-072B-4DF5-A0A2-036135EF7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BF75A-A99E-4E9B-B75A-FE420E9BFF2B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1B90D-146C-47B8-B634-74577AEAA599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urier New"/>
              </a:rPr>
              <a:t>ESTUDIO DE LA SÍNTESIS DE VOZ Y SU APLICACIÓN AL SOFTWARE EDUCATIVO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Times New Roman"/>
              </a:rPr>
              <a:t>Autor: Felipe Fernández Domínguez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Times New Roman"/>
              </a:rPr>
              <a:t>Tutores: Miguel Ángel Laguna Serrano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Times New Roman"/>
              </a:rPr>
              <a:t>Bruno González Baixauli 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íntesis de voz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Visión teóric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Alternativas disponibl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lternativas disponibl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estiva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lit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reeTT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BROL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5219640" y="4292640"/>
            <a:ext cx="2089080" cy="19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Festival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l proyecto de Festival comenzó en 1994 en el centro de tecnologías del habla de la universidad de Edimburgo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estival esta diseñado para permitir añadir nuevos módulos, fácil y eficientemente, sin que el desarrollador tenga que recorrer      camino ya andad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Flit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lite fue diseñado como una alternativa a Festival que mejorara cuestiones claves para su uso en dispositivos móvile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ejor portabilidad, tamaño y velocidad, al estar escrito completamente en C(no en C++ o Scheme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FreeTT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upera los problemas de Flite de dependencia con las plataformas y sus compiladore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eescrito totalmente en Java, mantiene la arquitectura de Flit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MBROL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l proyecto MBROLA tiene un sintetizador de voz basado en la concatenación de difono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Una de las bases de datos de difonos disponibles en español fue desarrollada por profesores de la UVA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Índic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46548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Objetivos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Software educativo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Síntesis de voz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Times New Roman"/>
              </a:rPr>
              <a:t>Interfaces animadas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Desarrollo de la aplicación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Conclusiones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4716360" y="3789360"/>
            <a:ext cx="275436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1760" y="692280"/>
            <a:ext cx="7924680" cy="12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Interfaces de Usuario con personajes animados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2361960"/>
            <a:ext cx="768204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Los agentes animados con interfaces conversacionales proporcionan un paradigma intuitivo de interacción ya que el usuario no necesita adquirir nuevos conocimiento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Los usuarios encuentran estos sistemas más amigables y cooperativos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5867280" y="4653000"/>
            <a:ext cx="186084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aracterísticas de Microsoft Agent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stá disponible en la red para descargarlo gratuitamente y puede ser empleado por los desarrolladores en sus aplicaciones sin coste de derechos de auto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aracterísticas de Microsoft Agent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a interfaz de programación de aplicación (API) de Microsoft Agent proporciona servicios de programación entre los que destacan: la habilidad de cargar un personaje, ejecutar una animación, hablar usando un sintetizador de voz y aceptar entrada de voz del usuario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Índic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37720" y="2361960"/>
            <a:ext cx="377532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Times New Roman"/>
              </a:rPr>
              <a:t>Objetivo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Software educativ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Síntesis de voz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Interfaces animada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Desarrollo de la aplicació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Conclusione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6099120" y="2563920"/>
            <a:ext cx="168264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Índic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Objetivo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Software educativ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Síntesis de voz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Interfaces animada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Times New Roman"/>
              </a:rPr>
              <a:t>Desarrollo de la aplicació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Conclusione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esarrollo de la aplicació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Análisis del sistema. Definición del problem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iseño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mplementació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ueb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esultados de las entrevista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os entrevistados fueron estudiantes de la facultad de Magisterio y monitores de ocio y tiempo libr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ecesidad de una aplicación amena e intuitiva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Diagrama general de casos de uso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826920" y="2421000"/>
            <a:ext cx="6913800" cy="44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iagrama inicial de clas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476360" y="2421000"/>
            <a:ext cx="5689440" cy="374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Jugar cuent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880920" y="2997360"/>
            <a:ext cx="678672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55280" y="1341000"/>
            <a:ext cx="792468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Jugar imágene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42920" y="2362320"/>
            <a:ext cx="662472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esarrollo de la aplicació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nálisis del sistema. Definición del problem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Diseño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mplementació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ueb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55280" y="1341000"/>
            <a:ext cx="792468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Diagrama de clases final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826920" y="2349360"/>
            <a:ext cx="6769440" cy="45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55280" y="1341000"/>
            <a:ext cx="792468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Jugar ingle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755640" y="2362320"/>
            <a:ext cx="684072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Objetivo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mprender el proceso de síntesis de voz desde un punto de vista teórico y los sintetizadores disponible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studio en profundidad de las interfaces animadas, centrándonos en Microsoft Agen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ealización de una aplicación que sirva como introducción al mundo del PC para niños de educación primaria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emostración de gesto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826920" y="2349360"/>
            <a:ext cx="6769440" cy="45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esarrollo de la aplicació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nálisis del sistema. Definición del problem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iseño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Implementació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ueb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Implementació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ntorno de desarrollo: Microsoft Visual Studio.Ne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enguaje de programación:C#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aquete de servicios:Microsoft Agent 2.0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Microsoft Agent 2.0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Character.Show(null)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Character.MoveTo(50,50,null)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Character.Speak("Hola buenas tardes",null )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Character.Hide(5)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esarrollo de la aplicació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nálisis del sistema. Definición del problem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iseño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mplementació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Prueb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rueba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826920" y="2637000"/>
            <a:ext cx="6697800" cy="126360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971640" y="4724280"/>
            <a:ext cx="6553080" cy="12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Índic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Objetivo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Software educativ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Síntesis de voz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Interfaces animada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Desarrollo de la aplicació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Times New Roman"/>
              </a:rPr>
              <a:t>Conclusione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ificultades encontrada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Las opciones disponibles en síntesis de voz no son tanta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Si encima añades idioma español,bajo Windows y libre las dificultades son mayore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La portabilidad de sistemas desarrollados en Linux a Windows no es trivial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osibles mejora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econocimiento del habl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esarrollo en aplicaciones web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troducción de nuevo elemento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Índic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Objetivo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Times New Roman"/>
              </a:rPr>
              <a:t>Software educativ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Síntesis de voz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Interfaces animada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Desarrollo de la aplicació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Conclusione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oftware educativ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Diferentes enfoques dependiendo del alumno al que vaya dirigid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Educación infantil: estimulación sensorial y conocimiento del entorn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Educación primaria: basado en el desarrollo de capacidades como memoria, concentración, razonamiento lógico</a:t>
            </a: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Educación especial: Proyecto Fress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1760" y="762120"/>
            <a:ext cx="792468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royecto Fress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826920" y="2492280"/>
            <a:ext cx="676944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Índic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Objetivo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Software educativ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Times New Roman"/>
              </a:rPr>
              <a:t>Síntesis de voz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Interfaces animada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Desarrollo de la aplicació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Conclusione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íntesis de voz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418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Visión teóric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lternativas disponibl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4788000" y="3357720"/>
            <a:ext cx="2879640" cy="29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Visión teóric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ront-en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oma como entrada un texto y produce una representación lingüística fonétic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Normalizacion de texto o preprocesad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exto a fonem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ack-en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oma como entrada la representación lingüística y produce una forma de onda sintetizad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4T07:31:05Z</dcterms:created>
  <dc:creator>02_Felipe</dc:creator>
  <dc:description/>
  <dc:language>en-US</dc:language>
  <cp:lastModifiedBy>02_Felipe</cp:lastModifiedBy>
  <dcterms:modified xsi:type="dcterms:W3CDTF">2006-09-26T10:46:17Z</dcterms:modified>
  <cp:revision>20</cp:revision>
  <dc:subject/>
  <dc:title>ESTUDIO DE LA SINTESIS DE VOZ Y SU APLICACIÓN AL SOFTWARE EDUCATIVO </dc:title>
</cp:coreProperties>
</file>