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5.png" ContentType="image/png"/>
  <Override PartName="/ppt/media/image1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ABA5-E195-42B1-80B6-E9A6AD75D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902C-135D-4AF0-BB64-0BA3B9F3E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23EF-9039-45B2-957E-9AC0F8D6E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474F-37ED-4875-B66B-4BADE0965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8ECDA-2B91-4D68-8CC1-AF00E2A23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C598D-5FEB-40DF-8FE9-CFA9DB3D3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A3B01-5FBF-40D0-B2F5-C1CCEE435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1FD11-2760-42D8-A8E4-7FEF7A552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81C3F-0087-4593-909B-CDF481056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1B876-C155-48C9-B460-2105961FB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9A481-D26C-4D1F-8AF9-DB5F3C46A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4459-A4AE-4F16-86B1-992BC0FC9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D2039-ACB9-49B7-A2D7-518E8210F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1B9A3-8BB1-418E-A669-29C7CAB45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428EC-DA60-4786-B1FB-091284F27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406B6-31AD-4A88-B3B2-57EF72402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00AB8-E0AC-468B-AF61-0FE0759F8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5264-5CBD-4850-A903-EAD44474F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A15B-A9B7-4506-A6B0-3E24972A3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BB1E-7CFD-48D5-81FB-FAAA448D2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D701-8A1A-4B68-825C-38E7F712E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6534-818A-4BA7-AA62-28B5139B1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EFF5-D20A-4CF3-8691-0F03069B8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9DC5-F215-4E48-A299-77D46BA8F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63002-C8F7-41EA-86C2-604E541D27FC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388F6-0FA0-439F-9256-FC3CD4AF6452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urier New"/>
              </a:rPr>
              <a:t>ESTUDIO DE LA SÍNTESIS DE VOZ Y SU APLICACIÓN AL SOFTWARE EDUCATIVO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Times New Roman"/>
              </a:rPr>
              <a:t>Autor: Felipe Fernández Domínguez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Times New Roman"/>
              </a:rPr>
              <a:t>Tutores: Miguel Ángel Laguna Serrano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Times New Roman"/>
              </a:rPr>
              <a:t>Bruno González Baixauli 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íntesis de voz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Visión teóric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Alternativas disponibl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lternativas disponibl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estiva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lit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reeT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BROL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219640" y="4292640"/>
            <a:ext cx="2089080" cy="19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estiva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l proyecto de Festival comenzó en 1994 en el centro de tecnologías del habla de la universidad de Edimburgo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estival esta diseñado para permitir añadir nuevos módulos, fácil y eficientemente, sin que el desarrollador tenga que recorrer      camino ya andad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lit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lite fue diseñado como una alternativa a Festival que mejorara cuestiones claves para su uso en dispositivos móvil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ejor portabilidad, tamaño y velocidad, al estar escrito completamente en C(no en C++ o Scheme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reeT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upera los problemas de Flite de dependencia con las plataformas y sus compilador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escrito totalmente en Java, mantiene la arquitectura de Flit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BROL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l proyecto MBROLA tiene un sintetizador de voz basado en la concatenación de difono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na de las bases de datos de difonos disponibles en español fue desarrollada por profesores de la UVA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Índi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46548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Objetivo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Software educativo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Síntesis de voz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Times New Roman"/>
              </a:rPr>
              <a:t>Interfaces animada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Desarrollo de la aplicación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Conclusione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716360" y="3789360"/>
            <a:ext cx="275436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1760" y="692280"/>
            <a:ext cx="7924680" cy="12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Interfaces de Usuario con personajes animados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76820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Los agentes animados con interfaces conversacionales proporcionan un paradigma intuitivo de interacción ya que el usuario no necesita adquirir nuevos conocimiento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Los usuarios encuentran estos sistemas más amigables y cooperativos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5867280" y="4653000"/>
            <a:ext cx="186084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aracterísticas de Microsoft Agent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stá disponible en la red para descargarlo gratuitamente y puede ser empleado por los desarrolladores en sus aplicaciones sin coste de derechos de auto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aracterísticas de Microsoft Agent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a interfaz de programación de aplicación (API) de Microsoft Agent proporciona servicios de programación entre los que destacan: la habilidad de cargar un personaje, ejecutar una animación, hablar usando un sintetizador de voz y aceptar entrada de voz del usuario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Índi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37753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Objetivo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oftware educativ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íntesis de voz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Interfaces animada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Desarrollo de la aplicació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Conclusion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099120" y="2563920"/>
            <a:ext cx="16826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Índi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Objetivo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oftware educativ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íntesis de voz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Interfaces animada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Desarrollo de la aplicació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Conclusion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esarrollo de la aplicació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Análisis del sistema. Definición del problem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seño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mplementa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ueb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sultados de las entrevista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os entrevistados fueron estudiantes de la facultad de Magisterio y monitores de ocio y tiempo libr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ecesidad de una aplicación amena e intuitiva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Diagrama general de casos de uso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826920" y="2421000"/>
            <a:ext cx="6913800" cy="44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iagrama inicial de clas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476360" y="2421000"/>
            <a:ext cx="5689440" cy="37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Jugar cuent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880920" y="2997360"/>
            <a:ext cx="678672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55280" y="1341000"/>
            <a:ext cx="792468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Jugar imágene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42920" y="2362320"/>
            <a:ext cx="66247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esarrollo de la aplicació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nálisis del sistema. Definición del problem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Diseño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mplementa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ueb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55280" y="1341000"/>
            <a:ext cx="792468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Diagrama de clases final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826920" y="2349360"/>
            <a:ext cx="6769440" cy="45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55280" y="1341000"/>
            <a:ext cx="792468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Jugar ingle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755640" y="2362320"/>
            <a:ext cx="68407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bjetivo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mprender el proceso de síntesis de voz desde un punto de vista teórico y los sintetizadores disponibl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studio en profundidad de las interfaces animadas, centrándonos en Microsoft Agen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alización de una aplicación que sirva como introducción al mundo del PC para niños de educación primaria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emostración de gesto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826920" y="2349360"/>
            <a:ext cx="6769440" cy="45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esarrollo de la aplicació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nálisis del sistema. Definición del problem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seño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Implementa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ueb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mplementació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ntorno de desarrollo: Microsoft Visual Studio.Ne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enguaje de programación:C#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aquete de servicios:Microsoft Agent 2.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icrosoft Agent 2.0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haracter.Show(null)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haracter.MoveTo(50,50,null)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haracter.Speak("Hola buenas tardes",null )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haracter.Hide(5)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esarrollo de la aplicació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nálisis del sistema. Definición del problem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seño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mplementa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rueb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ueba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826920" y="2637000"/>
            <a:ext cx="6697800" cy="12636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971640" y="4724280"/>
            <a:ext cx="6553080" cy="12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Índi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Objetivo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oftware educativ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íntesis de voz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Interfaces animada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Desarrollo de la aplicació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Conclusion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ificultades encontrada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Las opciones disponibles en síntesis de voz no son tanta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i encima añades idioma español,bajo Windows y libre las dificultades son mayor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La portabilidad de sistemas desarrollados en Linux a Windows no es trivial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osibles mejora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conocimiento del habl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sarrollo en aplicaciones web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troducción de nuevo elemento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Índi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Objetivo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Software educativ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íntesis de voz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Interfaces animada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Desarrollo de la aplicació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Conclusion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oftware educativ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Diferentes enfoques dependiendo del alumno al que vaya dirigid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Educación infantil: estimulación sensorial y conocimiento del entorn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Educación primaria: basado en el desarrollo de capacidades como memoria, concentración, razonamiento lógico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Educación especial: Proyecto Fress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1760" y="762120"/>
            <a:ext cx="792468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oyecto Fress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826920" y="2492280"/>
            <a:ext cx="676944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Índi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Objetivo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oftware educativ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Síntesis de voz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Interfaces animada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Desarrollo de la aplicació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Conclusion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íntesis de voz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418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Visión teóric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lternativas disponibl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788000" y="3357720"/>
            <a:ext cx="2879640" cy="29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Visión teóric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ront-en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oma como entrada un texto y produce una representación lingüística fonétic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ormalizacion de texto o preprocesad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exto a fonem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ack-en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oma como entrada la representación lingüística y produce una forma de onda sintetizad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4T07:31:05Z</dcterms:created>
  <dc:creator>02_Felipe</dc:creator>
  <dc:description/>
  <dc:language>en-US</dc:language>
  <cp:lastModifiedBy>02_Felipe</cp:lastModifiedBy>
  <dcterms:modified xsi:type="dcterms:W3CDTF">2006-09-26T10:46:17Z</dcterms:modified>
  <cp:revision>20</cp:revision>
  <dc:subject/>
  <dc:title>ESTUDIO DE LA SINTESIS DE VOZ Y SU APLICACIÓN AL SOFTWARE EDUCATIVO </dc:title>
</cp:coreProperties>
</file>