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56BB-E765-4714-AA6B-092432282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91E5-813D-4DE2-B6CA-212087370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D261-9DC7-481F-9AB8-E2F351AFC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BBBB-0DC5-4508-B764-3DE5BE437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445C7-D778-47A6-B704-BD2EE7CE9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EEC79-735F-48DA-87C3-40464A078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C518B-9E93-49A2-8A33-4BDB6CDD8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B88BA-455A-4A7E-88A1-3F24F4A41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19435-1D1D-47E2-90A5-960929ECA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8C60F-C5F7-4614-ADBB-B3B41AA13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DC3D1-6F24-4A5D-9144-25D1542B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6CB4-C973-4EF3-828C-585FF2C2D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759CA-176D-4594-B15C-3FD95D37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3BC7D-9A99-4FDA-9BCC-39803DDF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C3D97-3C0E-45FA-818F-C3F37F334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26E1B-35C6-4776-BBCA-17FD1EB91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F4236-9676-4D0B-94C1-1C3159514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13DE-6CDE-4C04-805B-634045662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2750-CC10-4C72-8A7C-99DE657BA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E98B-42D0-4854-8C68-5CBC110F8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01F7-3B1F-4B32-97B7-1BD457132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D6FA-65BA-455C-B545-3B0834A4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DD0D-D42F-4D24-A2A3-762191F1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20FC-4D42-400A-87D9-36B839A1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4F3C0-1FF4-48D3-B2F9-F4BD57DD024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78F7D-DC3A-447A-B0EC-3E5FBF53C50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urier New"/>
              </a:rPr>
              <a:t>ESTUDIO DE LA SÍNTESIS DE VOZ Y SU APLICACIÓN AL SOFTWARE EDUCATIVO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Autor: Felipe Fernández Domínguez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Tutores: Miguel Ángel Laguna Serrano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Bruno González Baixauli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íntesis de voz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isión teóri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lternativas disponib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lternativas disponi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estiv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li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reeT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BROL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219640" y="4292640"/>
            <a:ext cx="208908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estiv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 proyecto de Festival comenzó en 1994 en el centro de tecnologías del habla de la universidad de Edimburg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estival esta diseñado para permitir añadir nuevos módulos, fácil y eficientemente, sin que el desarrollador tenga que recorrer      camino ya andad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li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lite fue diseñado como una alternativa a Festival que mejorara cuestiones claves para su uso en dispositivos móvil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jor portabilidad, tamaño y velocidad, al estar escrito completamente en C(no en C++ o Schem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reeT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pera los problemas de Flite de dependencia con las plataformas y sus compilador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escrito totalmente en Java, mantiene la arquitectura de Flit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BROL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 proyecto MBROLA tiene un sintetizador de voz basado en la concatenación de difono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a de las bases de datos de difonos disponibles en español fue desarrollada por profesores de la UV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Í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46548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Software educativo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Síntesis de voz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Interfaces animada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Desarrollo de la aplicació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Conclusion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716360" y="3789360"/>
            <a:ext cx="2754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692280"/>
            <a:ext cx="792468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terfaces de Usuario con personajes animado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76820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Los agentes animados con interfaces conversacionales proporcionan un paradigma intuitivo de interacción ya que el usuario no necesita adquirir nuevos conocimiento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Los usuarios encuentran estos sistemas más amigables y cooperativo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867280" y="4653000"/>
            <a:ext cx="18608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racterísticas de Microsoft Agent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stá disponible en la red para descargarlo gratuitamente y puede ser empleado por los desarrolladores en sus aplicaciones sin coste de derechos de auto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racterísticas de Microsoft Agent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 interfaz de programación de aplicación (API) de Microsoft Agent proporciona servicios de programación entre los que destacan: la habilidad de cargar un personaje, ejecutar una animación, hablar usando un sintetizador de voz y aceptar entrada de voz del usuario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Í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oftware educ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íntesis de voz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Interfaces animad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sarrollo de la aplic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Conclusio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099120" y="2563920"/>
            <a:ext cx="16826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Í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oftware educ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íntesis de voz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Interfaces animad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Desarrollo de la aplic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Conclusio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sarrollo de la aplic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nálisis del sistema. Definición del proble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eñ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plement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ueb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sultados de las entrevist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s entrevistados fueron estudiantes de la facultad de Magisterio y monitores de ocio y tiempo libr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cesidad de una aplicación amena e intuitiv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iagrama general de casos de us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826920" y="2421000"/>
            <a:ext cx="691380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agrama inicial de cla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476360" y="2421000"/>
            <a:ext cx="568944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Jugar cuen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880920" y="2997360"/>
            <a:ext cx="67867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55280" y="1341000"/>
            <a:ext cx="792468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ugar imágen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42920" y="2362320"/>
            <a:ext cx="66247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sarrollo de la aplic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álisis del sistema. Definición del proble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iseñ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plement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ueb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280" y="1341000"/>
            <a:ext cx="792468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iagrama de clases fin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826920" y="2349360"/>
            <a:ext cx="676944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5280" y="1341000"/>
            <a:ext cx="792468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ugar ingl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55640" y="2362320"/>
            <a:ext cx="68407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jetiv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prender el proceso de síntesis de voz desde un punto de vista teórico y los sintetizadores disponibl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studio en profundidad de las interfaces animadas, centrándonos en Microsoft Ag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alización de una aplicación que sirva como introducción al mundo del PC para niños de educación primari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mostración de gest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826920" y="2349360"/>
            <a:ext cx="676944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sarrollo de la aplic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álisis del sistema. Definición del proble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eñ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mplement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ueb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mplement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torno de desarrollo: Microsoft Visual Studio.N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nguaje de programación:C#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quete de servicios:Microsoft Agent 2.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Agent 2.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haracter.Show(null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haracter.MoveTo(50,50,null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haracter.Speak("Hola buenas tardes",null 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haracter.Hide(5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sarrollo de la aplic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álisis del sistema. Definición del proble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eñ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plement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ueb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ueb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826920" y="2637000"/>
            <a:ext cx="6697800" cy="1263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971640" y="4724280"/>
            <a:ext cx="655308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Í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oftware educ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íntesis de voz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Interfaces animad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sarrollo de la aplic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Conclusio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ficultades encontrad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as opciones disponibles en síntesis de voz no son tanta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i encima añades idioma español,bajo Windows y libre las dificultades son mayor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a portabilidad de sistemas desarrollados en Linux a Windows no es trivial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sibles mejor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conocimiento del habl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arrollo en aplicaciones we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roducción de nuevo elemento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Í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Software educ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íntesis de voz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Interfaces animad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sarrollo de la aplic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Conclusio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ftware educativ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ferentes enfoques dependiendo del alumno al que vaya dirigid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ducación infantil: estimulación sensorial y conocimiento del entorn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ducación primaria: basado en el desarrollo de capacidades como memoria, concentración, razonamiento lógico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ducación especial: Proyecto Fress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46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yecto Fress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26920" y="2492280"/>
            <a:ext cx="67694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Í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oftware educ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Síntesis de voz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Interfaces animad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sarrollo de la aplic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Conclusio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íntesis de voz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418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Visión teóric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ternativas disponib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788000" y="3357720"/>
            <a:ext cx="287964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isión teóric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ont-e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oma como entrada un texto y produce una representación lingüística fonétic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rmalizacion de texto o preprocesad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xto a fonem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k-e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oma como entrada la representación lingüística y produce una forma de onda sintetiza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4T07:31:05Z</dcterms:created>
  <dc:creator>02_Felipe</dc:creator>
  <dc:description/>
  <dc:language>en-US</dc:language>
  <cp:lastModifiedBy>02_Felipe</cp:lastModifiedBy>
  <dcterms:modified xsi:type="dcterms:W3CDTF">2006-09-26T10:46:17Z</dcterms:modified>
  <cp:revision>20</cp:revision>
  <dc:subject/>
  <dc:title>ESTUDIO DE LA SINTESIS DE VOZ Y SU APLICACIÓN AL SOFTWARE EDUCATIVO </dc:title>
</cp:coreProperties>
</file>